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2.png" ContentType="image/png"/>
  <Override PartName="/ppt/media/image11.gif" ContentType="image/gif"/>
  <Override PartName="/ppt/media/image10.wmf" ContentType="image/x-wmf"/>
  <Override PartName="/ppt/media/image4.jpeg" ContentType="image/jpeg"/>
  <Override PartName="/ppt/media/image22.gif" ContentType="image/gif"/>
  <Override PartName="/ppt/media/image9.gif" ContentType="image/gif"/>
  <Override PartName="/ppt/media/image7.gif" ContentType="image/gif"/>
  <Override PartName="/ppt/media/image8.png" ContentType="image/png"/>
  <Override PartName="/ppt/media/image5.gif" ContentType="image/gif"/>
  <Override PartName="/ppt/media/auth.wav" ContentType="audio/x-wav"/>
  <Override PartName="/ppt/media/image20.gif" ContentType="image/gif"/>
  <Override PartName="/ppt/media/image18.jpeg" ContentType="image/jpeg"/>
  <Override PartName="/ppt/media/image19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3.gif" ContentType="image/gif"/>
  <Override PartName="/ppt/media/image1.png" ContentType="image/png"/>
  <Override PartName="/ppt/media/image21.gif" ContentType="image/gif"/>
  <Override PartName="/ppt/media/image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632-FAD2-4E49-A3B8-204CCE95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9BB-2ED2-48A6-A11B-196307C0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BD2FCC-3BA1-4B4C-BF68-2380BCF4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69842E-E0D9-4C7A-8E96-F250A2CF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396E35-E8C1-430C-8774-E78A2B0E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4D50E1-B79F-4CDF-BB5A-2E489E65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5AE407-F643-4AE4-8DD7-DAC6CC2D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BEF3A7-330A-49C8-9E78-74274EF1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86CED0-344C-4E84-836C-6E23C597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3DA6A7-C5F2-4ABC-8C5B-19D6C79F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0CFFC7-224A-4808-BE66-5306C52D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BB57A-BF77-40A7-A1CE-7A4BC0DE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8E4-A40B-4A8C-8D42-97BC5D82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29725-B315-444E-B537-8A0A5B52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D58E3-5030-4949-B732-623B3955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32E65-E254-4AB0-98E6-BEF97A07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CA787-DF0F-49E0-AC1D-C40B92E7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2F935-3D11-44B0-8698-8F68B338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370B8-CAC6-4D7F-9FAB-7707F4FC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B2129-BEC2-495A-8CB7-6928B63A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C984C-44FC-4818-A2F7-F966AAD7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D3DC8-BF2A-4C4F-A8DC-07A42473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895A8-A600-482F-A050-43379B4B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364-7C31-4399-A5BE-D16A1F16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570A1-01BA-4036-AB53-93703B9E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7F616D-6AA3-4902-A905-DDD041A1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961521-4044-4BE0-95C6-5142335A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E20D3F-23B1-47C2-A123-ABCDEFA6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D19C77-B5B5-4F47-8E2E-FD0A6FA3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44DF32-3FC6-4937-AA96-F0AF6FAA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02E59B-95FC-406A-AFEB-E8334ADF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EA7EC3-8580-434B-A6AD-58D14BF8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6E07CC-D8F3-4C9F-B1F7-2948A56C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50D1E5-2F80-4F53-9EB5-A3ED96DF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0707-F0A3-4662-9362-C13CCD39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482F2D-325F-4201-8737-9B5C3CF7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67E8F0-AC5F-4AEC-A9C8-294E0A73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D1077A-74B7-4951-8BB6-26CA2A3B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89EE5-BDC1-4A55-8E1E-7F8E2551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7C6B3-0D10-496D-9B0C-41B166CB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68180-4555-471F-B4BA-93EBA9AC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80E1E-D818-4EEE-BB6F-60D2EF22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AE26F-0EC9-4CC1-81C6-8A0C52BD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9A6A8-827B-4143-9BD7-7AC539AC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1F6F3-CEAE-4A2C-B74D-537CCB8A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2D97-B838-460E-90FE-EC198EE2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7B250-F796-44E6-8106-FE1FA128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AE11B-45AC-4CAB-84C3-42AD73C4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45009-354A-484B-B440-EA5772F1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65692-4043-4A1D-9537-E893BA6F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1D9F6-5E6B-4FC2-A137-8CF1C836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FE639D-1481-4675-92CE-380EF78B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D65097-A1FD-45A4-977C-22E27489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01A850-CA69-4EFA-B63D-72512C85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D0075D-5F9C-4F85-9EBE-50719774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BC089C-B6B3-4D88-A29A-93E00581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A9A4-6A06-4900-9EDE-F98D1245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C5D48F-C2B9-45B9-A8AF-FCDAF264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439EB1-6B81-452B-BA80-0B7E60EA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15F05F-2E2D-4B3E-8447-60A46C40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E4E3C6-3C28-4224-85AA-B2D06E21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9A2383-2460-4AE6-83E3-C9C32D91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6936C4-5FFA-4183-BB4A-4973EEE5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8F8A26-741A-4618-940D-3931D409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3547F-B122-4094-8088-12A3BC20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EC726-C0C9-4077-8D2B-02D8AAF4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1F7DB-C755-4E4D-AD5F-94D0AF01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0B2D-00E4-45BA-840F-0D932BFC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08DA2-9E8F-41CF-ABD8-F65C9B93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C8006-40BC-4D73-9232-836EC55A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90E9DE-9C1F-400E-B152-D0BCE6AB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BE0C0-AAE2-4C9A-8A36-9AB406FD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047CB-E9D2-4C36-8B6C-FC41CE18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2EA17-7ED7-4EE6-A8ED-945AC55A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C0588-B629-4532-ADDB-903293AE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76653-684F-4E69-9210-B071A446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74C73-9A11-42A0-81D5-75A9A429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573E73-9310-47C0-995F-8EEE302F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76FB-7330-4B00-9EA2-A272FF5F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5D957-81A6-49F1-8545-2405DACE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11679-BE7B-47AD-973C-C09DA55D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A26806-F0FF-4C30-B07C-42A5A3F1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E677F1-8CF1-4A1F-9C4F-0A947DEB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A539E5-6834-4400-BA9A-8C33C691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294B9B-A863-48D5-B5AF-688700F4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8F6552-DFB8-4909-99EC-2FD8BE53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4C0AC-E9D3-413D-9A2B-728AA949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D39DE1-8871-4B5B-8040-3855010D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031DFA-EE98-4099-B54F-370C87FE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98B1-0D63-4C0B-AD0F-854DD440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67133A-C7A1-40D9-8B97-BC47D237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D7CB5A-5E12-48EF-8173-33B1B413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AE696B-ED48-435F-8AC4-3253D1D6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8D0A1-3F30-4C0C-964F-CD351F9D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2F915-347E-456B-A798-97B000A8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33CD3-02F1-4ADF-B3DF-479BAAC0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D303D5-695D-46CE-B21A-8205696B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3165F-20AD-481F-BF0B-5E895906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A03D84-E262-443C-8EDC-9BC05CD7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C81237-B000-4FA1-8EB6-5A2187D8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DB1F-D698-45B5-8F92-4A4D6320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DF755B-4A25-4907-A300-AE19190F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DB08D5-1255-4D7B-9E9A-D1FED7B6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E564FC-3FCC-471D-AC94-29DC1262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48E39B-18B4-4881-AF9F-C71C01C8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7C48E4-BC43-4438-A8DE-9030C581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BB1880-671C-4DAE-AD36-E87EA59E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FF5860-177D-4063-B1C1-2E7C348F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2E1B60-E1FC-4B29-9ED9-7251BE13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DEFCA-3591-42D5-9820-ADD285C7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8C7545-8D7C-4B7F-89F0-B9786B42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EF4-F156-44A8-9410-F5421A28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54D9-410B-4FFB-A9BE-D01E9DD0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C9AFF8-71D8-4556-9824-AC8BB0A3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46ACB0-74AB-44E6-AF00-AECD4EB1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184F66-5DA8-4401-A9C0-29EFD825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BCA21C-C338-4F72-B8DB-786173B8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9E22E3-6C06-4A3A-9D24-D3476F21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6AE95E-8F32-4D51-97B2-9208C320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D90EA-448A-4B7B-9EB0-06B68632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47515-451A-4BA0-B786-D9ADDF14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608A87-39E2-4CDE-B155-42E56FFF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6DE009-25CC-4C9C-BDB3-5ECDED7F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51C4-B5B8-4AB3-879C-920E0F99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FD0F6D-61CB-4BF5-A2CA-CE1D9BBE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3FE5BC-8F57-450D-B3BB-3C595A2A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5AC142-BAC0-48EB-9A31-F42E9EF6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FEF85C-9986-413B-BC64-948815ED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09B76F-3802-461C-9208-22D0A245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A6B481-FA04-4420-A732-4460035D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D3E30-5F6E-44FB-8C24-129B3695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8F7D0C-5665-4EC7-B98C-E3A7C066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1AEFDB-1D6A-494D-BB48-21948BFC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6FD425-9210-4D12-B5C7-5C8CDA99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1299-0B29-4018-8563-DEE7D3C1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B57DF6-D752-4710-BB41-FDD7B366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1DE550-6E59-4021-BBD3-65632A01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312D08-44FA-489C-9D27-431A5CD3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F827AD-3FCF-4469-B49D-235B5DE0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2EA745-3436-4E6E-B9F4-AA6C1CDF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1E3EF6-36CF-4159-A115-BD96DFC3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BB246D-81C6-4D79-81B8-81CC91C7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272A26-C7BF-4971-8D8D-89AB18BD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61EDB6-32F1-4501-BBBD-68175D06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B8EACE-8708-4DD8-B735-DE3B20B7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6A7D-0A67-4D37-B0D6-E2A9F960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C2825F-66FC-40CE-AC5E-89953305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6A0C4-DBE6-4D5D-B305-97F167D7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E94A05-C8C9-4FC5-A2E4-6D40F7B9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DA1137-611C-45DA-8B5A-C222E8A2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91A435-C0BA-4428-8DEA-A78F1456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3D4167-ECC9-41DA-B116-90F333A2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88ED83-AF6E-4780-B817-B1DAEED3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C028D2-204C-4135-8C41-E8CDD011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6BC93B-425E-48FD-9EC5-359D6AC3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D7327E-A7A7-4E49-A5DF-CB4507CB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436E-4DE1-4C28-823D-9E68619C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7DFBD7-1418-4FA9-BC46-5556C520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8F0DB7-711F-4AF3-A047-876531C7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DED90A-E3A4-4E29-B6A1-3E10972C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37C74D-276E-4C51-8ED2-06225C26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395C1E-FF34-43B7-AC72-7E4092AA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3EC737-12B3-41D6-A5BA-EAF258CA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BBFCB8-12BD-4AB6-BD62-56E9065C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2C0565-0AA0-476D-9D06-5F679BE6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F4B09D-7FF6-4691-8D0F-3F09FB22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72877A-5744-4DB2-9362-1113A046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DBC4A-CCC3-4A51-88B8-D00AAF8D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CD10B8-6712-4F33-8824-567113AD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AE946E-4EFD-41C9-8589-C5338EEA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82B891-1A51-4C02-B0FB-B42FDA76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072AD8-6691-4CF2-8F58-81208023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64EBE7-7C62-4E7D-A919-AFD35D26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7AC99F-05A3-4256-A866-33672504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1020EB-1873-493B-8341-7C230E07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DF4967-13C2-41AB-B834-51D45A38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7E4128-22DB-40BB-B161-27FCEE8B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80BF9D-F85F-4BC8-8C33-F1267E21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40669-F32F-487F-B6A1-D09561A2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CC75F7-A67D-4988-8853-411EFAE6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78EFD8-C48B-4019-8AD9-FFE3C16C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BFF804-2A5D-4D7B-9A38-79B24B6B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F360B5-583B-4382-873B-8B6A5042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042C64-CBF5-4491-9871-71D6C778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5405BC0-3176-4E95-ADE3-C52A3350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BEFE109-DCAD-4AE3-A153-291200A3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34DAAD1-1F2C-484E-B728-6D7626DE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23D2B47-3097-4A4C-AA0D-260EB1C8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B4922AE-EAB0-4483-8F94-2F45ADCF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20A5-A9CC-4FCB-BDD9-FC4E50EF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E913675-EAA3-4267-B824-BE112E8C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90D2E70-64F5-4DFE-8D8E-0629B967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DC9FDCD-7010-4076-96EE-F049E35F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15F6011-E8FC-41B7-BEDC-8A8C1A97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3665EDF-FA04-4442-9BA2-2F12A5B0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E1CA221-6B56-421B-BED5-681C1756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C23A948-EEA0-48EA-A3A0-A7D6EFF5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DE6B97-2A63-476C-B033-4138B5F8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F22068-36D4-450B-9310-37F67648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76D057-6C52-4146-A710-E7106951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06D75-311E-455F-8177-6F639A31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DC5E5E-DF7C-4A15-818D-B4A55052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15766E-6649-44A1-BA25-43E38A23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36F6E5-B9B5-45DF-A609-89EE3C3B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009778-44EF-42A6-B656-895A3215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106A61-3161-487C-B7CF-3A9CE91B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FE55BD-F97B-4FD4-8802-3D954EF3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7AB02D-4DA4-4369-9584-7EFB8588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F8B79C-B1C2-401F-81A5-E306D457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8A5349-3D26-44A0-897F-6151A07E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C2F3207-F076-48E2-A717-9B08349A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6866C-59A9-4229-A115-1FF164F1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4E2ABCA-6136-4D30-86BB-0FE9DD6C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47060A9-10F9-4A5D-8AED-561EAA71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80EC5AE-E657-4971-B1A2-8B85CE58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D12035C-43D4-4440-8FD9-11FA7A69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C776C52-5F4A-4C35-97AE-EF3A8F94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448ED74-89DA-470A-9334-63B41143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810AF38-DB66-4E34-8F30-AC04558D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A129F0C-1F73-48D2-A672-5F656B37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1420B40-64EB-4BAA-8305-A6A22611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FF1E493-2985-47D8-B6B2-915F184F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CA6-B09F-4FFD-A920-EFBEF67A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4E6F-BEF0-4CF2-AC5C-0AC947AA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FFCF52E-4A69-4C88-B732-17C425E8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2BEE-E5AA-4616-A24B-D70E34CF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9261E-04BA-44D3-8D0C-F417DE9A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CBCA3-70E1-43E2-9D67-07B00933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373D6-1DF6-4153-A16A-92FF9A23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5D410-517E-4D7A-89B8-6258C38D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987C8-E9BB-4629-B4B1-179EF1C0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FAE2F-62CF-447F-BBD2-A06E648C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4B2A0-EE7B-4CA4-B319-4CD794B5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CC294-0C96-46E2-A96D-1993ACEA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80A-ED09-4642-B8D5-4C5DAD5D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3A2BE-9EE2-4ABC-82D0-3CA6102D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CCD20-D778-4DEA-9FA7-2506EB17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33254-2892-4DC2-877B-AB5B5B54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EF770-4C0B-445A-B1AF-2A0C03A6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49A83-AD73-445F-99C3-2E82A8FA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DA690-6438-4A30-B810-1A1E4898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8F53A-7B67-475E-A3E9-62BFF5D3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232B7-86CF-4E4A-B5A7-8CD549A4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D463F-8354-4EA7-AF80-DC004805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E0CE4-E8B7-46F5-9635-DC48C853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7ED-569A-476E-AF3C-517F8DD3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322AB-2F54-4684-ACCB-6D6FF1F5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E4053-6FD1-403C-9D9E-40378C19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8ECB8-56DE-49B0-911E-A64FF9F6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A2BEB-73BE-4F59-9A51-F4C358E0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9C1FA-674A-4258-BD0D-2A8FC2C5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340E6-65FE-4E7E-BB4A-CBC81B83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2B851-67EE-417C-9744-0A1DCD9D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8462F-A48F-4099-9416-755935FB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48001-E5B9-4799-A599-9BF07E23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56CF2-52D2-4536-852D-23810318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8EC-8118-4B79-928F-79E6C180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7A7BA-75CE-4017-89DC-E2EAE281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0A71C-C7C8-43A0-891B-C2B71E65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BF83D-40E7-462B-B4E6-1B4EC525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49329-07B1-418E-A5D0-1F529A4D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0189F-1603-4F13-8085-06BF385A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706ED-1B29-4482-A5BD-C06E734F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2F987-6102-4DA1-8C1D-F99322AA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5C0D0-CC52-4B91-8FB8-CF844E18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B7233-0E12-483D-B5D2-026F02DA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88F29-1E20-41E1-88BC-0FF639AB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F43-5E65-4401-91AE-BFB7C68E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14F70-AC68-4129-A8D4-70807984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FAF36-C9EF-43C3-8D2E-D1D4DF32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B7E0-79C0-4569-80CE-2F417ECF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07E695-FF7B-4B30-9EEA-531A559B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CCC23E-C8CC-4E8D-B129-06972284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651760-84BB-4371-A2C0-69928FE9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1DD2E6-75C4-4820-A3AE-4F8597AB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E3F0D-158C-48C7-BA42-38EAE878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9FBF89-F4B0-4CEA-9770-29A6BD2A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47111-7249-42F4-950F-8845AA04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E7A-8D20-444F-9ECE-3D6EC86F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FD8E0-A6EC-42E8-8D18-180A0634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953F61-29B4-4832-9D89-A8C241B4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FEF917-EA63-45DC-9037-BA0FCB96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2F390-CF06-42FA-9480-439C07FA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120A5-B27A-43B7-BCF7-D845722F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CC20F-5DA4-4F2B-B6EB-21F7A182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DA196-E7B0-416E-AA50-BC5EDCB6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06288-ECA4-438A-BBEF-D65F8549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F1BDD-E4E1-4B4A-B60C-9F178EA4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5EECC-684C-458B-B961-B3A566B1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7FE-34FB-4512-B0BB-725DEDA2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580AD-7CE9-424E-BB1F-BB646080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6C3BA-86F5-4B76-A734-08FDE3D3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EC5E8-9506-4873-93BD-A891B99A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B8C6E-89B9-4DA6-9E36-BAD3F92D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4B597-3167-4DD4-A067-1D363341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104D2-CEF7-41C9-AE32-130DBA02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50442-D863-456C-AC4F-5B710A40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9DE1B7-A04D-4836-B348-441CACD4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9F9E02-96D6-496C-AEC1-61BDE103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FE58F0-CE79-41E4-A5DF-B9139B45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B432-B804-4538-A7E3-F3D24F4A0F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8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9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0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7396-9D98-4935-A885-7F00FE751721}" type="slidenum"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C5E3-68A8-470A-BB2C-74B97ABB9DA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E918-69D9-4DE1-83AD-7EC26F6D835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8721-2D4B-40F6-8401-D36B10B46D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660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Arc 4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1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4461-9B66-4069-921E-B16C5B8051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80B5-E5FE-46D9-8924-6F4D89258D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747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748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749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755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61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6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9175-186B-445C-A44C-BEACF557BA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81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4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50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5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31EF-4499-4637-BE35-71D2D0705D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5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15B2-CA99-4235-9631-DF1DEF3E494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0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864B-D92E-466C-8A45-177CE1B6733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9A15-2C10-4FA5-9330-FD9675E357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64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3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1144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9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1150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6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0B20-0F10-48DD-B064-0EAC60A97B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9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210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3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948E-5B12-4A36-B2AF-EA0B8B4953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7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1268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1275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1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6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6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6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757D-F643-430A-B4C7-7A25254932DD}" type="slidenum"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326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8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330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33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7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39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B206-6C36-4A60-A0B7-9AB9FA78ECA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 type="ftr" idx="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7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1388" name="Freeform 4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Freeform 5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0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1391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5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70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71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72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51BD-96D3-412E-A4F2-5FA057A1FF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sldNum" idx="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B8CE-06EB-439A-B891-472C7F7157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dt" idx="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87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88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94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00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0B28-0446-4474-A6F1-E6B6EE9F24C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8E56-31FA-417B-B6D0-BDF9658409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F181-DD8A-43D1-A331-EF5A2CFF4B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34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88F1-8021-4D4A-881A-6FA7906D48B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3476-B388-4AB1-B567-601A887DC03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750A-FBE8-4B0E-B207-7556599C89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34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34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4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35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36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36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7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7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7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8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8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8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9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9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9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40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697D-DF4A-4246-9E2D-F5402238A5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45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th.wav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uth.wav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gi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audio" Target="../media/auth.wav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audio" Target="../media/auth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audio" Target="../media/auth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auth.wav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audio" Target="../media/auth.wav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" Target="slide2.xml"/><Relationship Id="rId8" Type="http://schemas.openxmlformats.org/officeDocument/2006/relationships/slide" Target="slide12.xml"/><Relationship Id="rId9" Type="http://schemas.openxmlformats.org/officeDocument/2006/relationships/audio" Target="../media/auth.wav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audio" Target="../media/auth.wav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gif"/><Relationship Id="rId3" Type="http://schemas.openxmlformats.org/officeDocument/2006/relationships/audio" Target="../media/auth.wav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0.wmf"/><Relationship Id="rId3" Type="http://schemas.openxmlformats.org/officeDocument/2006/relationships/image" Target="../media/image12.png"/><Relationship Id="rId4" Type="http://schemas.openxmlformats.org/officeDocument/2006/relationships/audio" Target="../media/auth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gif"/><Relationship Id="rId3" Type="http://schemas.openxmlformats.org/officeDocument/2006/relationships/audio" Target="../media/auth.wav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04560" y="503280"/>
            <a:ext cx="883908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Министерство образования и науки  ЧР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41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МБОУ  «СОШ  с. Нагорное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Грозненского  муниципального  района» Ч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2014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eeea36"/>
                </a:solidFill>
                <a:latin typeface="Monotype Corsiva"/>
              </a:rPr>
              <a:t>5. Конкурс Волшебников</a:t>
            </a:r>
            <a:endParaRPr b="0" lang="en-US" sz="6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5410080" y="2743200"/>
            <a:ext cx="2819520" cy="3124080"/>
          </a:xfrm>
          <a:prstGeom prst="rect">
            <a:avLst/>
          </a:prstGeom>
          <a:noFill/>
          <a:ln w="9360">
            <a:solidFill>
              <a:srgbClr val="a3f781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иней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рмомет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инамомет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нзур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8" name="Rectangle 7"/>
          <p:cNvSpPr/>
          <p:nvPr/>
        </p:nvSpPr>
        <p:spPr>
          <a:xfrm>
            <a:off x="762120" y="2550600"/>
            <a:ext cx="4190760" cy="2533320"/>
          </a:xfrm>
          <a:prstGeom prst="rect">
            <a:avLst/>
          </a:prstGeom>
          <a:solidFill>
            <a:srgbClr val="800000"/>
          </a:solidFill>
          <a:ln w="9360">
            <a:solidFill>
              <a:srgbClr val="a3f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рибор для определения расстоя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23880" indent="-1523880"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рибор для измерения температ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23880" indent="-1523880" algn="ctr"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23880" indent="-1523880"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рибор для измерения си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23880" indent="-1523880" algn="ctr"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рибор для измерения объема жидкост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Rectangle 8"/>
          <p:cNvSpPr/>
          <p:nvPr/>
        </p:nvSpPr>
        <p:spPr>
          <a:xfrm>
            <a:off x="4876920" y="1370520"/>
            <a:ext cx="3809880" cy="1313640"/>
          </a:xfrm>
          <a:prstGeom prst="rect">
            <a:avLst/>
          </a:prstGeom>
          <a:noFill/>
          <a:ln w="9360">
            <a:solidFill>
              <a:srgbClr val="a3f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етон получит тот, кто назовет цену деления прибора и пределы измер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1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1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4" dur="2000"/>
                                        <p:tgtEl>
                                          <p:spTgt spid="1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1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mic Sans MS"/>
              </a:rPr>
              <a:t>Сценка  «Ньютон и  сосе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2" name="Picture 4" descr="wihod"/>
          <p:cNvPicPr/>
          <p:nvPr/>
        </p:nvPicPr>
        <p:blipFill>
          <a:blip r:embed="rId1"/>
          <a:stretch/>
        </p:blipFill>
        <p:spPr>
          <a:xfrm>
            <a:off x="8305920" y="6477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63" name="Picture 5" descr="an6"/>
          <p:cNvPicPr/>
          <p:nvPr/>
        </p:nvPicPr>
        <p:blipFill>
          <a:blip r:embed="rId2"/>
          <a:stretch/>
        </p:blipFill>
        <p:spPr>
          <a:xfrm>
            <a:off x="0" y="5794200"/>
            <a:ext cx="1143000" cy="1063800"/>
          </a:xfrm>
          <a:prstGeom prst="rect">
            <a:avLst/>
          </a:prstGeom>
          <a:ln w="0">
            <a:noFill/>
          </a:ln>
        </p:spPr>
      </p:pic>
      <p:pic>
        <p:nvPicPr>
          <p:cNvPr id="1564" name="Picture 7" descr="Фото007"/>
          <p:cNvPicPr/>
          <p:nvPr/>
        </p:nvPicPr>
        <p:blipFill>
          <a:blip r:embed="rId3"/>
          <a:stretch/>
        </p:blipFill>
        <p:spPr>
          <a:xfrm>
            <a:off x="457200" y="1600200"/>
            <a:ext cx="2971800" cy="4495680"/>
          </a:xfrm>
          <a:prstGeom prst="rect">
            <a:avLst/>
          </a:prstGeom>
          <a:ln w="0">
            <a:noFill/>
          </a:ln>
        </p:spPr>
      </p:pic>
      <p:pic>
        <p:nvPicPr>
          <p:cNvPr id="1565" name="Picture 8" descr="Фото012"/>
          <p:cNvPicPr/>
          <p:nvPr/>
        </p:nvPicPr>
        <p:blipFill>
          <a:blip r:embed="rId4"/>
          <a:stretch/>
        </p:blipFill>
        <p:spPr>
          <a:xfrm>
            <a:off x="5715000" y="1600200"/>
            <a:ext cx="2971800" cy="4495680"/>
          </a:xfrm>
          <a:prstGeom prst="rect">
            <a:avLst/>
          </a:prstGeom>
          <a:ln w="0">
            <a:noFill/>
          </a:ln>
        </p:spPr>
      </p:pic>
      <p:pic>
        <p:nvPicPr>
          <p:cNvPr id="1566" name="Picture 9" descr="Фото018"/>
          <p:cNvPicPr/>
          <p:nvPr/>
        </p:nvPicPr>
        <p:blipFill>
          <a:blip r:embed="rId5"/>
          <a:stretch/>
        </p:blipFill>
        <p:spPr>
          <a:xfrm>
            <a:off x="3352680" y="1600200"/>
            <a:ext cx="281952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3" dur="2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Comic Sans MS"/>
              </a:rPr>
              <a:t>Молодцы!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9" name="Group 5"/>
          <p:cNvGrpSpPr/>
          <p:nvPr/>
        </p:nvGrpSpPr>
        <p:grpSpPr>
          <a:xfrm>
            <a:off x="601560" y="1597680"/>
            <a:ext cx="8129160" cy="4770360"/>
            <a:chOff x="601560" y="1597680"/>
            <a:chExt cx="8129160" cy="4770360"/>
          </a:xfrm>
        </p:grpSpPr>
        <p:pic>
          <p:nvPicPr>
            <p:cNvPr id="1570" name="Picture 6" descr="little_orange_guy"/>
            <p:cNvPicPr/>
            <p:nvPr/>
          </p:nvPicPr>
          <p:blipFill>
            <a:blip r:embed="rId1"/>
            <a:stretch/>
          </p:blipFill>
          <p:spPr>
            <a:xfrm>
              <a:off x="1296360" y="2272320"/>
              <a:ext cx="6533280" cy="32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1" name="Rectangle 7"/>
            <p:cNvSpPr/>
            <p:nvPr/>
          </p:nvSpPr>
          <p:spPr>
            <a:xfrm rot="2332800">
              <a:off x="1047600" y="1828440"/>
              <a:ext cx="1242360" cy="1495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7e9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 rot="19269600">
              <a:off x="6965280" y="1837800"/>
              <a:ext cx="1222920" cy="12945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7e9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 rot="19668600">
              <a:off x="914400" y="4304880"/>
              <a:ext cx="1425600" cy="1586520"/>
            </a:xfrm>
            <a:prstGeom prst="rect">
              <a:avLst/>
            </a:prstGeom>
            <a:gradFill rotWithShape="0">
              <a:gsLst>
                <a:gs pos="0">
                  <a:srgbClr val="e8e6c6"/>
                </a:gs>
                <a:gs pos="100000">
                  <a:srgbClr val="d9d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 rot="2581800">
              <a:off x="6955200" y="4508280"/>
              <a:ext cx="1425600" cy="1586520"/>
            </a:xfrm>
            <a:prstGeom prst="rect">
              <a:avLst/>
            </a:prstGeom>
            <a:gradFill rotWithShape="0">
              <a:gsLst>
                <a:gs pos="0">
                  <a:srgbClr val="e8e6c6"/>
                </a:gs>
                <a:gs pos="100000">
                  <a:srgbClr val="d9d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AutoShape 11"/>
            <p:cNvSpPr/>
            <p:nvPr/>
          </p:nvSpPr>
          <p:spPr>
            <a:xfrm>
              <a:off x="1150200" y="1968120"/>
              <a:ext cx="7018560" cy="386028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33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76" name="Picture 12" descr="popugay"/>
          <p:cNvPicPr/>
          <p:nvPr/>
        </p:nvPicPr>
        <p:blipFill>
          <a:blip r:embed="rId2"/>
          <a:stretch/>
        </p:blipFill>
        <p:spPr>
          <a:xfrm>
            <a:off x="6629400" y="609480"/>
            <a:ext cx="2514600" cy="1768680"/>
          </a:xfrm>
          <a:prstGeom prst="rect">
            <a:avLst/>
          </a:prstGeom>
          <a:ln w="0">
            <a:noFill/>
          </a:ln>
        </p:spPr>
      </p:pic>
      <p:pic>
        <p:nvPicPr>
          <p:cNvPr id="1577" name="Picture 13" descr="kurica"/>
          <p:cNvPicPr/>
          <p:nvPr/>
        </p:nvPicPr>
        <p:blipFill>
          <a:blip r:embed="rId3"/>
          <a:stretch/>
        </p:blipFill>
        <p:spPr>
          <a:xfrm>
            <a:off x="685800" y="4038480"/>
            <a:ext cx="176364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Picture 27" descr="sal1"/>
          <p:cNvPicPr/>
          <p:nvPr/>
        </p:nvPicPr>
        <p:blipFill>
          <a:blip r:embed="rId1"/>
          <a:stretch/>
        </p:blipFill>
        <p:spPr>
          <a:xfrm>
            <a:off x="5943600" y="152280"/>
            <a:ext cx="3200400" cy="312444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6" descr="sal1"/>
          <p:cNvPicPr/>
          <p:nvPr/>
        </p:nvPicPr>
        <p:blipFill>
          <a:blip r:embed="rId2"/>
          <a:stretch/>
        </p:blipFill>
        <p:spPr>
          <a:xfrm>
            <a:off x="5638680" y="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12" descr=""/>
          <p:cNvPicPr/>
          <p:nvPr/>
        </p:nvPicPr>
        <p:blipFill>
          <a:blip r:embed="rId3"/>
          <a:stretch/>
        </p:blipFill>
        <p:spPr>
          <a:xfrm>
            <a:off x="4495680" y="2362320"/>
            <a:ext cx="1600200" cy="1752480"/>
          </a:xfrm>
          <a:prstGeom prst="rect">
            <a:avLst/>
          </a:prstGeom>
          <a:ln w="0">
            <a:noFill/>
          </a:ln>
        </p:spPr>
      </p:pic>
      <p:sp>
        <p:nvSpPr>
          <p:cNvPr id="1484" name="WordArt 8"/>
          <p:cNvSpPr txBox="1"/>
          <p:nvPr/>
        </p:nvSpPr>
        <p:spPr>
          <a:xfrm>
            <a:off x="4648320" y="274320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7 класс </a:t>
            </a:r>
            <a:endParaRPr b="1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5" name="WordArt 6"/>
          <p:cNvSpPr txBox="1"/>
          <p:nvPr/>
        </p:nvSpPr>
        <p:spPr>
          <a:xfrm rot="20307600">
            <a:off x="385560" y="722160"/>
            <a:ext cx="501804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55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Физика  в природе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55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86" name="AutoShape 13"/>
          <p:cNvSpPr/>
          <p:nvPr/>
        </p:nvSpPr>
        <p:spPr>
          <a:xfrm rot="20366400">
            <a:off x="762120" y="2895480"/>
            <a:ext cx="1295280" cy="1219320"/>
          </a:xfrm>
          <a:custGeom>
            <a:avLst/>
            <a:gdLst>
              <a:gd name="textAreaLeft" fmla="*/ 533520 w 1295280"/>
              <a:gd name="textAreaRight" fmla="*/ 761760 w 1295280"/>
              <a:gd name="textAreaTop" fmla="*/ 502200 h 1219320"/>
              <a:gd name="textAreaBottom" fmla="*/ 717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AutoShape 14"/>
          <p:cNvSpPr/>
          <p:nvPr/>
        </p:nvSpPr>
        <p:spPr>
          <a:xfrm>
            <a:off x="8534520" y="685800"/>
            <a:ext cx="609480" cy="762120"/>
          </a:xfrm>
          <a:custGeom>
            <a:avLst/>
            <a:gdLst>
              <a:gd name="textAreaLeft" fmla="*/ 250920 w 609480"/>
              <a:gd name="textAreaRight" fmla="*/ 358560 w 609480"/>
              <a:gd name="textAreaTop" fmla="*/ 313920 h 762120"/>
              <a:gd name="textAreaBottom" fmla="*/ 4482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AutoShape 15"/>
          <p:cNvSpPr/>
          <p:nvPr/>
        </p:nvSpPr>
        <p:spPr>
          <a:xfrm rot="1513800">
            <a:off x="5401800" y="4373280"/>
            <a:ext cx="1062000" cy="914400"/>
          </a:xfrm>
          <a:custGeom>
            <a:avLst/>
            <a:gdLst>
              <a:gd name="textAreaLeft" fmla="*/ 373680 w 1062000"/>
              <a:gd name="textAreaRight" fmla="*/ 688320 w 1062000"/>
              <a:gd name="textAreaTop" fmla="*/ 321840 h 914400"/>
              <a:gd name="textAreaBottom" fmla="*/ 592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04" y="7604"/>
                </a:lnTo>
                <a:lnTo>
                  <a:pt x="10800" y="0"/>
                </a:lnTo>
                <a:lnTo>
                  <a:pt x="13996" y="7604"/>
                </a:lnTo>
                <a:lnTo>
                  <a:pt x="21600" y="10800"/>
                </a:lnTo>
                <a:lnTo>
                  <a:pt x="13996" y="13996"/>
                </a:lnTo>
                <a:lnTo>
                  <a:pt x="10800" y="21600"/>
                </a:lnTo>
                <a:lnTo>
                  <a:pt x="7604" y="13996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AutoShape 16"/>
          <p:cNvSpPr/>
          <p:nvPr/>
        </p:nvSpPr>
        <p:spPr>
          <a:xfrm>
            <a:off x="0" y="4876920"/>
            <a:ext cx="762120" cy="914400"/>
          </a:xfrm>
          <a:custGeom>
            <a:avLst/>
            <a:gdLst>
              <a:gd name="textAreaLeft" fmla="*/ 340920 w 762120"/>
              <a:gd name="textAreaRight" fmla="*/ 421200 w 762120"/>
              <a:gd name="textAreaTop" fmla="*/ 408960 h 914400"/>
              <a:gd name="textAreaBottom" fmla="*/ 505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60" y="9660"/>
                </a:lnTo>
                <a:lnTo>
                  <a:pt x="10800" y="0"/>
                </a:lnTo>
                <a:lnTo>
                  <a:pt x="11940" y="9660"/>
                </a:lnTo>
                <a:lnTo>
                  <a:pt x="21600" y="10800"/>
                </a:lnTo>
                <a:lnTo>
                  <a:pt x="11940" y="11940"/>
                </a:lnTo>
                <a:lnTo>
                  <a:pt x="10800" y="21600"/>
                </a:lnTo>
                <a:lnTo>
                  <a:pt x="9660" y="1194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AutoShape 17"/>
          <p:cNvSpPr/>
          <p:nvPr/>
        </p:nvSpPr>
        <p:spPr>
          <a:xfrm>
            <a:off x="1371600" y="380880"/>
            <a:ext cx="762120" cy="914400"/>
          </a:xfrm>
          <a:custGeom>
            <a:avLst/>
            <a:gdLst>
              <a:gd name="textAreaLeft" fmla="*/ 313920 w 762120"/>
              <a:gd name="textAreaRight" fmla="*/ 448200 w 76212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AutoShape 19"/>
          <p:cNvSpPr/>
          <p:nvPr/>
        </p:nvSpPr>
        <p:spPr>
          <a:xfrm rot="20806800">
            <a:off x="3514320" y="3200400"/>
            <a:ext cx="685800" cy="838080"/>
          </a:xfrm>
          <a:custGeom>
            <a:avLst/>
            <a:gdLst>
              <a:gd name="textAreaLeft" fmla="*/ 282600 w 685800"/>
              <a:gd name="textAreaRight" fmla="*/ 403200 w 6858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AutoShape 20"/>
          <p:cNvSpPr/>
          <p:nvPr/>
        </p:nvSpPr>
        <p:spPr>
          <a:xfrm>
            <a:off x="7924680" y="2514600"/>
            <a:ext cx="685800" cy="838080"/>
          </a:xfrm>
          <a:custGeom>
            <a:avLst/>
            <a:gdLst>
              <a:gd name="textAreaLeft" fmla="*/ 282600 w 685800"/>
              <a:gd name="textAreaRight" fmla="*/ 403200 w 6858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AutoShape 21"/>
          <p:cNvSpPr/>
          <p:nvPr/>
        </p:nvSpPr>
        <p:spPr>
          <a:xfrm rot="1812600">
            <a:off x="6705720" y="0"/>
            <a:ext cx="761760" cy="914400"/>
          </a:xfrm>
          <a:custGeom>
            <a:avLst/>
            <a:gdLst>
              <a:gd name="textAreaLeft" fmla="*/ 313920 w 761760"/>
              <a:gd name="textAreaRight" fmla="*/ 447840 w 76176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3f781"/>
          </a:solidFill>
          <a:ln w="9360">
            <a:solidFill>
              <a:srgbClr val="a3f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AutoShape 22"/>
          <p:cNvSpPr/>
          <p:nvPr/>
        </p:nvSpPr>
        <p:spPr>
          <a:xfrm>
            <a:off x="4495680" y="1447920"/>
            <a:ext cx="762120" cy="914400"/>
          </a:xfrm>
          <a:custGeom>
            <a:avLst/>
            <a:gdLst>
              <a:gd name="textAreaLeft" fmla="*/ 313920 w 762120"/>
              <a:gd name="textAreaRight" fmla="*/ 448200 w 76212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3f071"/>
          </a:solidFill>
          <a:ln w="9360">
            <a:solidFill>
              <a:srgbClr val="f3f0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AutoShape 23"/>
          <p:cNvSpPr/>
          <p:nvPr/>
        </p:nvSpPr>
        <p:spPr>
          <a:xfrm rot="977400">
            <a:off x="2362320" y="4419360"/>
            <a:ext cx="761760" cy="914400"/>
          </a:xfrm>
          <a:custGeom>
            <a:avLst/>
            <a:gdLst>
              <a:gd name="textAreaLeft" fmla="*/ 313920 w 761760"/>
              <a:gd name="textAreaRight" fmla="*/ 447840 w 76176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a3f781"/>
          </a:solidFill>
          <a:ln w="9360">
            <a:solidFill>
              <a:srgbClr val="a3f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Rectangle 18"/>
          <p:cNvSpPr/>
          <p:nvPr/>
        </p:nvSpPr>
        <p:spPr>
          <a:xfrm>
            <a:off x="533520" y="5486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Учитель физики: Джамалдинова  Зулай Нурали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4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14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/>
          </p:nvPr>
        </p:nvSpPr>
        <p:spPr>
          <a:xfrm>
            <a:off x="5867280" y="2438280"/>
            <a:ext cx="32767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Чудный дар природы вечной,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Дар бесцветной  и святой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В ней источник бесконечный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Наслажденья красотой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Солнце, небо, звезд сиянье,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Море в блеске голубом,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Всю природу и создания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Мы лишь в свете познаем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Arial"/>
              </a:rPr>
              <a:t>Итак, начинаем КВН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title"/>
          </p:nvPr>
        </p:nvSpPr>
        <p:spPr>
          <a:xfrm>
            <a:off x="1371600" y="914400"/>
            <a:ext cx="7772400" cy="1295280"/>
          </a:xfrm>
          <a:prstGeom prst="rect">
            <a:avLst/>
          </a:prstGeom>
          <a:solidFill>
            <a:srgbClr val="faf9c6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Цели: 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1.Привитие  интереса к физике. 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2.Повышение познавательной деятельности, активности обучающихся.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Times New Roman"/>
              </a:rPr>
              <a:t>3. Воспитание уважения к сопернику, умение работать в команде; раскрыть   творческие способности обучающихся.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99" name="Picture 4" descr="3D_professor"/>
          <p:cNvPicPr/>
          <p:nvPr/>
        </p:nvPicPr>
        <p:blipFill>
          <a:blip r:embed="rId1"/>
          <a:stretch/>
        </p:blipFill>
        <p:spPr>
          <a:xfrm>
            <a:off x="1600200" y="2514600"/>
            <a:ext cx="4038480" cy="2514600"/>
          </a:xfrm>
          <a:prstGeom prst="rect">
            <a:avLst/>
          </a:prstGeom>
          <a:ln w="0">
            <a:noFill/>
          </a:ln>
        </p:spPr>
      </p:pic>
      <p:sp>
        <p:nvSpPr>
          <p:cNvPr id="1500" name="Text Box 11"/>
          <p:cNvSpPr/>
          <p:nvPr/>
        </p:nvSpPr>
        <p:spPr>
          <a:xfrm>
            <a:off x="5410080" y="4191120"/>
            <a:ext cx="37339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137" dur="1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138" dur="1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762120" y="247680"/>
            <a:ext cx="4114800" cy="302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imes New Roman"/>
              </a:rPr>
              <a:t>Соревнуясь вместе с вами, 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Times New Roman"/>
              </a:rPr>
              <a:t>Мы останемся друзьями.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Times New Roman"/>
              </a:rPr>
              <a:t>Пусть борьба кипит сильней,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Times New Roman"/>
              </a:rPr>
              <a:t>Наша дружба крепнет с ней!!!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800600" y="4343040"/>
            <a:ext cx="37339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Мы веселая команда,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Физиками нас зовут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Нашу силу не измерить,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Вот поэтому мы тут!!!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03" name="Picture 26" descr="sal1"/>
          <p:cNvPicPr/>
          <p:nvPr/>
        </p:nvPicPr>
        <p:blipFill>
          <a:blip r:embed="rId1"/>
          <a:stretch/>
        </p:blipFill>
        <p:spPr>
          <a:xfrm>
            <a:off x="5181480" y="1676520"/>
            <a:ext cx="3505320" cy="251460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2" descr=""/>
          <p:cNvPicPr/>
          <p:nvPr/>
        </p:nvPicPr>
        <p:blipFill>
          <a:blip r:embed="rId2"/>
          <a:stretch/>
        </p:blipFill>
        <p:spPr>
          <a:xfrm>
            <a:off x="1600200" y="3733920"/>
            <a:ext cx="3124080" cy="289548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7"/>
          <p:cNvSpPr/>
          <p:nvPr/>
        </p:nvSpPr>
        <p:spPr>
          <a:xfrm>
            <a:off x="60948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редставление кома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5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15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6" name="Group 30"/>
          <p:cNvGrpSpPr/>
          <p:nvPr/>
        </p:nvGrpSpPr>
        <p:grpSpPr>
          <a:xfrm>
            <a:off x="1981080" y="380880"/>
            <a:ext cx="5867640" cy="990720"/>
            <a:chOff x="1981080" y="380880"/>
            <a:chExt cx="5867640" cy="990720"/>
          </a:xfrm>
        </p:grpSpPr>
        <p:sp>
          <p:nvSpPr>
            <p:cNvPr id="1507" name="AutoShape 28"/>
            <p:cNvSpPr/>
            <p:nvPr/>
          </p:nvSpPr>
          <p:spPr>
            <a:xfrm>
              <a:off x="1981080" y="380880"/>
              <a:ext cx="5867640" cy="990720"/>
            </a:xfrm>
            <a:custGeom>
              <a:avLst/>
              <a:gdLst>
                <a:gd name="textAreaLeft" fmla="*/ 1467000 w 5867640"/>
                <a:gd name="textAreaRight" fmla="*/ 4401000 w 5867640"/>
                <a:gd name="textAreaTop" fmla="*/ 12384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WordArt 15"/>
            <p:cNvSpPr txBox="1"/>
            <p:nvPr/>
          </p:nvSpPr>
          <p:spPr>
            <a:xfrm>
              <a:off x="3657600" y="727200"/>
              <a:ext cx="2438280" cy="33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0000a4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Представление  команд!</a:t>
              </a:r>
              <a:endParaRPr b="0" lang="en-US" sz="8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a4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509" name="Group 20"/>
          <p:cNvGrpSpPr/>
          <p:nvPr/>
        </p:nvGrpSpPr>
        <p:grpSpPr>
          <a:xfrm>
            <a:off x="6316560" y="832320"/>
            <a:ext cx="3139920" cy="2907000"/>
            <a:chOff x="6316560" y="832320"/>
            <a:chExt cx="3139920" cy="2907000"/>
          </a:xfrm>
        </p:grpSpPr>
        <p:sp>
          <p:nvSpPr>
            <p:cNvPr id="1510" name="AutoShape 3"/>
            <p:cNvSpPr/>
            <p:nvPr/>
          </p:nvSpPr>
          <p:spPr>
            <a:xfrm rot="1620600">
              <a:off x="6629040" y="1294920"/>
              <a:ext cx="2514600" cy="1981080"/>
            </a:xfrm>
            <a:prstGeom prst="cloudCallout">
              <a:avLst>
                <a:gd name="adj1" fmla="val -31652"/>
                <a:gd name="adj2" fmla="val 5508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WordArt 5"/>
            <p:cNvSpPr txBox="1"/>
            <p:nvPr/>
          </p:nvSpPr>
          <p:spPr>
            <a:xfrm>
              <a:off x="6972120" y="1841400"/>
              <a:ext cx="21337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1" strike="noStrike">
                  <a:ln w="936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cc99"/>
                      </a:gs>
                      <a:gs pos="100000">
                        <a:srgbClr val="0000a4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Конкурс "Искателей"</a:t>
              </a:r>
              <a:endParaRPr b="0" lang="en-US" sz="80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0000a4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512" name="Group 22"/>
          <p:cNvGrpSpPr/>
          <p:nvPr/>
        </p:nvGrpSpPr>
        <p:grpSpPr>
          <a:xfrm>
            <a:off x="378000" y="4230000"/>
            <a:ext cx="3581280" cy="2475000"/>
            <a:chOff x="378000" y="4230000"/>
            <a:chExt cx="3581280" cy="2475000"/>
          </a:xfrm>
        </p:grpSpPr>
        <p:sp>
          <p:nvSpPr>
            <p:cNvPr id="1513" name="AutoShape 2"/>
            <p:cNvSpPr/>
            <p:nvPr/>
          </p:nvSpPr>
          <p:spPr>
            <a:xfrm rot="11527800">
              <a:off x="533520" y="4552920"/>
              <a:ext cx="3270240" cy="1828800"/>
            </a:xfrm>
            <a:prstGeom prst="cloudCallout">
              <a:avLst>
                <a:gd name="adj1" fmla="val -24560"/>
                <a:gd name="adj2" fmla="val 462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WordArt 6"/>
            <p:cNvSpPr txBox="1"/>
            <p:nvPr/>
          </p:nvSpPr>
          <p:spPr>
            <a:xfrm rot="816000">
              <a:off x="1352520" y="5178240"/>
              <a:ext cx="17431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1" strike="noStrike">
                  <a:ln w="936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cc99"/>
                      </a:gs>
                      <a:gs pos="100000">
                        <a:srgbClr val="0000a4"/>
                      </a:gs>
                    </a:gsLst>
                    <a:lin ang="3744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Конкурс теоретиков</a:t>
              </a:r>
              <a:endParaRPr b="0" lang="en-US" sz="80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0000a4"/>
                    </a:gs>
                  </a:gsLst>
                  <a:lin ang="3744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515" name="Picture 7" descr="BD05637_"/>
          <p:cNvPicPr/>
          <p:nvPr/>
        </p:nvPicPr>
        <p:blipFill>
          <a:blip r:embed="rId1"/>
          <a:stretch/>
        </p:blipFill>
        <p:spPr>
          <a:xfrm>
            <a:off x="2819520" y="2079720"/>
            <a:ext cx="4038480" cy="269856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8" descr="word1"/>
          <p:cNvPicPr/>
          <p:nvPr/>
        </p:nvPicPr>
        <p:blipFill>
          <a:blip r:embed="rId2"/>
          <a:stretch/>
        </p:blipFill>
        <p:spPr>
          <a:xfrm>
            <a:off x="2209680" y="609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9" descr="word1"/>
          <p:cNvPicPr/>
          <p:nvPr/>
        </p:nvPicPr>
        <p:blipFill>
          <a:blip r:embed="rId3"/>
          <a:stretch/>
        </p:blipFill>
        <p:spPr>
          <a:xfrm>
            <a:off x="914400" y="3505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10" descr="word1"/>
          <p:cNvPicPr/>
          <p:nvPr/>
        </p:nvPicPr>
        <p:blipFill>
          <a:blip r:embed="rId4"/>
          <a:stretch/>
        </p:blipFill>
        <p:spPr>
          <a:xfrm>
            <a:off x="7696080" y="3429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11" descr="word1"/>
          <p:cNvPicPr/>
          <p:nvPr/>
        </p:nvPicPr>
        <p:blipFill>
          <a:blip r:embed="rId5"/>
          <a:stretch/>
        </p:blipFill>
        <p:spPr>
          <a:xfrm>
            <a:off x="4267080" y="51055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14" descr="word1"/>
          <p:cNvPicPr/>
          <p:nvPr/>
        </p:nvPicPr>
        <p:blipFill>
          <a:blip r:embed="rId6"/>
          <a:stretch/>
        </p:blipFill>
        <p:spPr>
          <a:xfrm>
            <a:off x="6095880" y="533520"/>
            <a:ext cx="12193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1521" name="Group 26"/>
          <p:cNvGrpSpPr/>
          <p:nvPr/>
        </p:nvGrpSpPr>
        <p:grpSpPr>
          <a:xfrm>
            <a:off x="5703840" y="4342680"/>
            <a:ext cx="3249000" cy="2817720"/>
            <a:chOff x="5703840" y="4342680"/>
            <a:chExt cx="3249000" cy="2817720"/>
          </a:xfrm>
        </p:grpSpPr>
        <p:sp>
          <p:nvSpPr>
            <p:cNvPr id="1522" name="AutoShape 13"/>
            <p:cNvSpPr/>
            <p:nvPr/>
          </p:nvSpPr>
          <p:spPr>
            <a:xfrm rot="4265400">
              <a:off x="6307200" y="4383720"/>
              <a:ext cx="2041560" cy="2734920"/>
            </a:xfrm>
            <a:prstGeom prst="cloudCallout">
              <a:avLst>
                <a:gd name="adj1" fmla="val -55625"/>
                <a:gd name="adj2" fmla="val 376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WordArt 16"/>
            <p:cNvSpPr txBox="1"/>
            <p:nvPr/>
          </p:nvSpPr>
          <p:spPr>
            <a:xfrm rot="20990400">
              <a:off x="6318000" y="5497200"/>
              <a:ext cx="2066760" cy="46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1" strike="noStrike">
                  <a:ln w="936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cc99"/>
                      </a:gs>
                      <a:gs pos="100000">
                        <a:srgbClr val="0000a4"/>
                      </a:gs>
                    </a:gsLst>
                    <a:lin ang="6612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Тренажер-эрудит</a:t>
              </a:r>
              <a:endParaRPr b="0" lang="en-US" sz="80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0000a4"/>
                    </a:gs>
                  </a:gsLst>
                  <a:lin ang="6612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524" name="Group 23"/>
          <p:cNvGrpSpPr/>
          <p:nvPr/>
        </p:nvGrpSpPr>
        <p:grpSpPr>
          <a:xfrm>
            <a:off x="-284400" y="743040"/>
            <a:ext cx="3083400" cy="2992320"/>
            <a:chOff x="-284400" y="743040"/>
            <a:chExt cx="3083400" cy="2992320"/>
          </a:xfrm>
        </p:grpSpPr>
        <p:sp>
          <p:nvSpPr>
            <p:cNvPr id="1525" name="AutoShape 4">
              <a:hlinkClick r:id="rId7" action="ppaction://hlinksldjump"/>
            </p:cNvPr>
            <p:cNvSpPr/>
            <p:nvPr/>
          </p:nvSpPr>
          <p:spPr>
            <a:xfrm rot="15217200">
              <a:off x="67320" y="981720"/>
              <a:ext cx="2379600" cy="2514600"/>
            </a:xfrm>
            <a:prstGeom prst="cloudCallout">
              <a:avLst>
                <a:gd name="adj1" fmla="val -52365"/>
                <a:gd name="adj2" fmla="val 476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WordArt 17"/>
            <p:cNvSpPr txBox="1"/>
            <p:nvPr/>
          </p:nvSpPr>
          <p:spPr>
            <a:xfrm rot="835800">
              <a:off x="406080" y="1742760"/>
              <a:ext cx="1743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1" strike="noStrike">
                  <a:ln w="936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cc99"/>
                      </a:gs>
                      <a:gs pos="100000">
                        <a:srgbClr val="0000a4"/>
                      </a:gs>
                    </a:gsLst>
                    <a:lin ang="3726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Разминка</a:t>
              </a:r>
              <a:endParaRPr b="0" lang="en-US" sz="80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0000a4"/>
                    </a:gs>
                  </a:gsLst>
                  <a:lin ang="3726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527" name="AutoShape 18">
            <a:hlinkClick r:id="rId8" action="ppaction://hlinksldjump"/>
          </p:cNvPr>
          <p:cNvSpPr/>
          <p:nvPr/>
        </p:nvSpPr>
        <p:spPr>
          <a:xfrm>
            <a:off x="8367840" y="6431040"/>
            <a:ext cx="731880" cy="380880"/>
          </a:xfrm>
          <a:custGeom>
            <a:avLst/>
            <a:gdLst>
              <a:gd name="textAreaLeft" fmla="*/ 24480 w 731880"/>
              <a:gd name="textAreaRight" fmla="*/ 707400 w 731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1487" h="21600">
                <a:moveTo>
                  <a:pt x="0" y="0"/>
                </a:moveTo>
                <a:lnTo>
                  <a:pt x="41487" y="0"/>
                </a:lnTo>
                <a:lnTo>
                  <a:pt x="41487" y="21600"/>
                </a:lnTo>
                <a:lnTo>
                  <a:pt x="0" y="21600"/>
                </a:lnTo>
                <a:close/>
              </a:path>
              <a:path fill="lightenLess" w="41487" h="21600">
                <a:moveTo>
                  <a:pt x="0" y="0"/>
                </a:moveTo>
                <a:lnTo>
                  <a:pt x="41487" y="0"/>
                </a:lnTo>
                <a:lnTo>
                  <a:pt x="40087" y="1400"/>
                </a:lnTo>
                <a:lnTo>
                  <a:pt x="1400" y="1400"/>
                </a:lnTo>
                <a:close/>
              </a:path>
              <a:path fill="darken" w="41487" h="21600">
                <a:moveTo>
                  <a:pt x="41487" y="0"/>
                </a:moveTo>
                <a:lnTo>
                  <a:pt x="41487" y="21600"/>
                </a:lnTo>
                <a:lnTo>
                  <a:pt x="40087" y="20200"/>
                </a:lnTo>
                <a:lnTo>
                  <a:pt x="40087" y="1400"/>
                </a:lnTo>
                <a:close/>
              </a:path>
              <a:path fill="darkenLess" w="41487" h="21600">
                <a:moveTo>
                  <a:pt x="41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87" y="20200"/>
                </a:lnTo>
                <a:close/>
              </a:path>
              <a:path fill="lighten" w="41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87" h="21600">
                <a:moveTo>
                  <a:pt x="24242" y="10800"/>
                </a:moveTo>
                <a:lnTo>
                  <a:pt x="13737" y="17806"/>
                </a:lnTo>
                <a:lnTo>
                  <a:pt x="13737" y="3794"/>
                </a:lnTo>
                <a:close/>
              </a:path>
              <a:path fill="darken" w="41487" h="21600">
                <a:moveTo>
                  <a:pt x="26087" y="3794"/>
                </a:moveTo>
                <a:lnTo>
                  <a:pt x="26087" y="17806"/>
                </a:lnTo>
                <a:lnTo>
                  <a:pt x="27750" y="17806"/>
                </a:lnTo>
                <a:lnTo>
                  <a:pt x="27750" y="3794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3f892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Text Box 25"/>
          <p:cNvSpPr/>
          <p:nvPr/>
        </p:nvSpPr>
        <p:spPr>
          <a:xfrm>
            <a:off x="2286000" y="3352680"/>
            <a:ext cx="4876920" cy="581400"/>
          </a:xfrm>
          <a:prstGeom prst="rect">
            <a:avLst/>
          </a:prstGeom>
          <a:solidFill>
            <a:srgbClr val="f6f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КВ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ede82f"/>
                </a:solidFill>
                <a:latin typeface="Monotype Corsiva"/>
              </a:rPr>
              <a:t>          </a:t>
            </a:r>
            <a:r>
              <a:rPr b="1" lang="ru-RU" sz="6100" spc="-1" strike="noStrike">
                <a:solidFill>
                  <a:srgbClr val="ede82f"/>
                </a:solidFill>
                <a:latin typeface="Monotype Corsiva"/>
              </a:rPr>
              <a:t>Разминка </a:t>
            </a:r>
            <a:br>
              <a:rPr sz="6100"/>
            </a:br>
            <a:r>
              <a:rPr b="1" lang="ru-RU" sz="6100" spc="-1" strike="noStrike">
                <a:solidFill>
                  <a:srgbClr val="ede82f"/>
                </a:solidFill>
                <a:latin typeface="Monotype Corsiva"/>
              </a:rPr>
              <a:t>Вопросы 1 команде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Text Box 7"/>
          <p:cNvSpPr/>
          <p:nvPr/>
        </p:nvSpPr>
        <p:spPr>
          <a:xfrm>
            <a:off x="228600" y="1752480"/>
            <a:ext cx="601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ния, вдоль которой движется тело (траектор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Измеряется в ньютонах (сил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рибор  для измерения массы тела (вес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Человек не может более 3 минут без … (воздух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Уничтожает всё живое (радиац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Text Box 8"/>
          <p:cNvSpPr/>
          <p:nvPr/>
        </p:nvSpPr>
        <p:spPr>
          <a:xfrm>
            <a:off x="1371600" y="4343400"/>
            <a:ext cx="75438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чему нельзя кулаком разбить толстую  доску, а ребром ладони можно? (Чем меньше площадь опоры, тем большее давление производит сил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Кто из учёных воскликнул:  ”Эврика!” (Архиме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жир всплывает в супе? ( Плотность жира меньше плотности суп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Из чего состоят все тела? (молекул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ула силы упругости (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Text Box 10"/>
          <p:cNvSpPr/>
          <p:nvPr/>
        </p:nvSpPr>
        <p:spPr>
          <a:xfrm>
            <a:off x="2590920" y="43434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3" name="Picture 19" descr="wihod"/>
          <p:cNvPicPr/>
          <p:nvPr/>
        </p:nvPicPr>
        <p:blipFill>
          <a:blip r:embed="rId1"/>
          <a:stretch/>
        </p:blipFill>
        <p:spPr>
          <a:xfrm>
            <a:off x="8381880" y="64771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21" descr="a2"/>
          <p:cNvPicPr/>
          <p:nvPr/>
        </p:nvPicPr>
        <p:blipFill>
          <a:blip r:embed="rId2"/>
          <a:stretch/>
        </p:blipFill>
        <p:spPr>
          <a:xfrm>
            <a:off x="533520" y="3809880"/>
            <a:ext cx="15904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ede82f"/>
                </a:solidFill>
                <a:latin typeface="Monotype Corsiva"/>
              </a:rPr>
              <a:t>    </a:t>
            </a:r>
            <a:r>
              <a:rPr b="1" lang="ru-RU" sz="6100" spc="-1" strike="noStrike">
                <a:solidFill>
                  <a:srgbClr val="ede82f"/>
                </a:solidFill>
                <a:latin typeface="Monotype Corsiva"/>
              </a:rPr>
              <a:t>Вопросы 2 команде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Text Box 7"/>
          <p:cNvSpPr/>
          <p:nvPr/>
        </p:nvSpPr>
        <p:spPr>
          <a:xfrm>
            <a:off x="2590920" y="1371600"/>
            <a:ext cx="5867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3352680" indent="-15238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Наука, изучающая природные явления (физи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352680" indent="-15238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упало Ньютону на голову? (яблок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352680" indent="-15238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гда больше весит гиря массой 1 кг. Летом или зимой? (одинако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352680" indent="-15238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бор для измерения силы (динамомет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352680" indent="-15238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ряется в паскалях (давле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7" name="Picture 19" descr="wihod"/>
          <p:cNvPicPr/>
          <p:nvPr/>
        </p:nvPicPr>
        <p:blipFill>
          <a:blip r:embed="rId1"/>
          <a:stretch/>
        </p:blipFill>
        <p:spPr>
          <a:xfrm>
            <a:off x="8381880" y="64771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538" name="Picture 10" descr="Рисунок13"/>
          <p:cNvPicPr/>
          <p:nvPr/>
        </p:nvPicPr>
        <p:blipFill>
          <a:blip r:embed="rId2"/>
          <a:stretch/>
        </p:blipFill>
        <p:spPr>
          <a:xfrm>
            <a:off x="6019920" y="4343400"/>
            <a:ext cx="36716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9" name="Picture 8" descr="an6"/>
          <p:cNvPicPr/>
          <p:nvPr/>
        </p:nvPicPr>
        <p:blipFill>
          <a:blip r:embed="rId1"/>
          <a:stretch/>
        </p:blipFill>
        <p:spPr>
          <a:xfrm>
            <a:off x="990720" y="1125360"/>
            <a:ext cx="3047760" cy="283716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7" descr="BD05637_"/>
          <p:cNvPicPr/>
          <p:nvPr/>
        </p:nvPicPr>
        <p:blipFill>
          <a:blip r:embed="rId2"/>
          <a:stretch/>
        </p:blipFill>
        <p:spPr>
          <a:xfrm>
            <a:off x="457200" y="3124080"/>
            <a:ext cx="4419720" cy="2951280"/>
          </a:xfrm>
          <a:prstGeom prst="rect">
            <a:avLst/>
          </a:prstGeom>
          <a:ln w="0">
            <a:noFill/>
          </a:ln>
        </p:spPr>
      </p:pic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Конкурс теоретиков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Text Box 9"/>
          <p:cNvSpPr/>
          <p:nvPr/>
        </p:nvSpPr>
        <p:spPr>
          <a:xfrm>
            <a:off x="3962520" y="2286000"/>
            <a:ext cx="518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листке записаны буквенные обозначения физических величин. Требуется письменно расшифровать символы за 1 минуту. Побеждает та команда, которая расшифрует больше обозначений (написать единицы обозначени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AutoShape 13">
            <a:hlinkClick r:id="" action="ppaction://hlinkshowjump?jump=nextslide"/>
          </p:cNvPr>
          <p:cNvSpPr/>
          <p:nvPr/>
        </p:nvSpPr>
        <p:spPr>
          <a:xfrm rot="5400000">
            <a:off x="4228920" y="6286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4" name="Picture 14" descr="wihod"/>
          <p:cNvPicPr/>
          <p:nvPr/>
        </p:nvPicPr>
        <p:blipFill>
          <a:blip r:embed="rId3"/>
          <a:stretch/>
        </p:blipFill>
        <p:spPr>
          <a:xfrm>
            <a:off x="807732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2" dur="2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c162a"/>
                </a:solidFill>
                <a:latin typeface="Monotype Corsiva"/>
              </a:rPr>
              <a:t>3.Конкурс  искателей</a:t>
            </a:r>
            <a:endParaRPr b="0" lang="en-US" sz="7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5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Rectangle 27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Text Box 32"/>
          <p:cNvSpPr/>
          <p:nvPr/>
        </p:nvSpPr>
        <p:spPr>
          <a:xfrm>
            <a:off x="685800" y="1752480"/>
            <a:ext cx="8458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Text Box 33"/>
          <p:cNvSpPr/>
          <p:nvPr/>
        </p:nvSpPr>
        <p:spPr>
          <a:xfrm>
            <a:off x="533520" y="190512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Не подмажешь, не поедешь (трени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Ложка дёгтя бочку мёда портит  (диффуз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Куй железо пока горячо  (агрегатные состоя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Без рук, без ног, а ворота открывает (вете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Text Box 37"/>
          <p:cNvSpPr/>
          <p:nvPr/>
        </p:nvSpPr>
        <p:spPr>
          <a:xfrm>
            <a:off x="1219320" y="3809880"/>
            <a:ext cx="6095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Нема и глуха, а определять объем жидкости позволяет ( мензур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Я под мышкой посижу и что делать укажу: или разрешу гулять, или уложу в кровать (термомет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Две сестры качались, правды добивались, а когда добились, то остановились ( вес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Стоят – молчат, пойдут- запоют (час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Rectangle 42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3" name="Picture 45" descr="wihod"/>
          <p:cNvPicPr/>
          <p:nvPr/>
        </p:nvPicPr>
        <p:blipFill>
          <a:blip r:embed="rId1"/>
          <a:stretch/>
        </p:blipFill>
        <p:spPr>
          <a:xfrm>
            <a:off x="7772400" y="5867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554" name="Picture 46" descr="mouse_mad"/>
          <p:cNvPicPr/>
          <p:nvPr/>
        </p:nvPicPr>
        <p:blipFill>
          <a:blip r:embed="rId2"/>
          <a:stretch/>
        </p:blipFill>
        <p:spPr>
          <a:xfrm>
            <a:off x="457200" y="5486400"/>
            <a:ext cx="1235160" cy="1371600"/>
          </a:xfrm>
          <a:prstGeom prst="rect">
            <a:avLst/>
          </a:prstGeom>
          <a:ln w="0">
            <a:noFill/>
          </a:ln>
        </p:spPr>
      </p:pic>
      <p:sp>
        <p:nvSpPr>
          <p:cNvPr id="1555" name="AutoShape 47">
            <a:hlinkClick r:id="" action="ppaction://hlinkshowjump?jump=nextslide"/>
          </p:cNvPr>
          <p:cNvSpPr/>
          <p:nvPr/>
        </p:nvSpPr>
        <p:spPr>
          <a:xfrm rot="5400000">
            <a:off x="4000320" y="605772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1" h="21600">
                <a:moveTo>
                  <a:pt x="14579" y="3794"/>
                </a:moveTo>
                <a:lnTo>
                  <a:pt x="28592" y="10800"/>
                </a:lnTo>
                <a:lnTo>
                  <a:pt x="14579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7" dur="500"/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1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1-21T17:10:12Z</dcterms:modified>
  <cp:revision>4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