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chimes.wav" ContentType="audio/x-wav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F98-F486-4763-BFAB-AED72A88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D79-4F57-43BE-8C48-BB9A9C78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0FD-5503-43C5-90C6-491B2C2A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D54-6941-43A8-86AB-FA5FA3CE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69B8-7252-407E-AF00-31E1B1D1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D58C-3379-44E1-BDB7-6F479A78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77E9-7265-428F-91D6-E5064B14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84AB-D5FC-4381-9A1C-F24634DA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C004-7F15-4079-92E3-BBC3D059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AA39-0222-4AAB-A825-3D346DA1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D2B5-D033-4EFD-BDAC-8F004869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8C9-67FC-44A1-81FE-3B0CA0FB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62B0-5C63-4069-A9CE-F4638E53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70F9-AC91-4342-88C1-C54A4B0E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CBBF-A7DC-49F8-8E57-4760036E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9201-C207-41B9-BB3C-DA4F19EB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83E2-91AC-449E-98E0-9C71843B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A64-AEC1-45AA-8AF7-4C6DC2BC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F41-5DF5-4249-8073-CB0D64E2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117-FD5B-4A93-A78D-18024B0C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E56-D037-40C0-AEF7-38A44632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888-9C88-4D5F-BDA5-9C9B7D5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39A-CC02-4171-AC16-FCF8F5D6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EA3-76ED-4B34-A856-960AE114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Freeform 8"/>
            <p:cNvSpPr/>
            <p:nvPr/>
          </p:nvSpPr>
          <p:spPr>
            <a:xfrm>
              <a:off x="-15840" y="-15840"/>
              <a:ext cx="9170640" cy="639576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-1080" y="-1440"/>
              <a:ext cx="9170640" cy="6395760"/>
            </a:xfrm>
            <a:prstGeom prst="pie">
              <a:avLst/>
            </a:prstGeom>
            <a:gradFill rotWithShape="0">
              <a:gsLst>
                <a:gs pos="0">
                  <a:srgbClr val="000059">
                    <a:alpha val="46274"/>
                  </a:srgbClr>
                </a:gs>
                <a:gs pos="100000">
                  <a:srgbClr val="000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"/>
          <p:cNvSpPr/>
          <p:nvPr/>
        </p:nvSpPr>
        <p:spPr>
          <a:xfrm>
            <a:off x="-15840" y="5281560"/>
            <a:ext cx="9169200" cy="1602000"/>
          </a:xfrm>
          <a:prstGeom prst="pie">
            <a:avLst/>
          </a:prstGeom>
          <a:gradFill rotWithShape="0">
            <a:gsLst>
              <a:gs pos="0">
                <a:srgbClr val="0000c0"/>
              </a:gs>
              <a:gs pos="100000">
                <a:srgbClr val="70b0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04F2-8BBE-41C1-B55F-A1405E73F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-14400" y="4292640"/>
            <a:ext cx="9164880" cy="259236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7" name="Freeform 9"/>
            <p:cNvSpPr/>
            <p:nvPr/>
          </p:nvSpPr>
          <p:spPr>
            <a:xfrm>
              <a:off x="0" y="0"/>
              <a:ext cx="9158400" cy="6124680"/>
            </a:xfrm>
            <a:prstGeom prst="pi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14400" y="0"/>
              <a:ext cx="9158400" cy="6124680"/>
            </a:xfrm>
            <a:prstGeom prst="pie">
              <a:avLst/>
            </a:prstGeom>
            <a:gradFill rotWithShape="0">
              <a:gsLst>
                <a:gs pos="0">
                  <a:srgbClr val="000059">
                    <a:alpha val="44313"/>
                  </a:srgbClr>
                </a:gs>
                <a:gs pos="100000">
                  <a:srgbClr val="000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0" name="Oval 12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0000c0"/>
                </a:gs>
                <a:gs pos="100000">
                  <a:srgbClr val="000057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3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c0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Text Box 14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0382-EA78-4540-B3CC-68CAA32091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294920"/>
            <a:ext cx="4038480" cy="4776840"/>
          </a:xfrm>
          <a:prstGeom prst="rect">
            <a:avLst/>
          </a:prstGeom>
          <a:solidFill>
            <a:srgbClr val="1ce46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Грозненский райо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БОУ  «СО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. Нагорное Грозненского муниципального района» Ч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213920"/>
            <a:ext cx="4038840" cy="483084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читель физики: Джамалдинова Зулай Нурали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014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ятно 1 5"/>
          <p:cNvSpPr/>
          <p:nvPr/>
        </p:nvSpPr>
        <p:spPr>
          <a:xfrm>
            <a:off x="1143000" y="285840"/>
            <a:ext cx="7215120" cy="1714320"/>
          </a:xfrm>
          <a:prstGeom prst="irregularSeal1">
            <a:avLst/>
          </a:prstGeom>
          <a:solidFill>
            <a:srgbClr val="ca36b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ca4"/>
                </a:solidFill>
                <a:latin typeface="Arial"/>
              </a:rPr>
              <a:t>Министерство образования  и науки Ч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.По фамилии какого ученого названа единица силы в системе С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7.Чему равен вес тела, если тело находится в поко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eaa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aa39"/>
                </a:solidFill>
                <a:latin typeface="Arial"/>
              </a:rPr>
              <a:t>8.Как называется тело, размерами, которого в данных условиях можно пренебреч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9.Кратковременные изменения магнитного поля Зем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0. Сколько фокусов у всякой линз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strips dir="r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310824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e46d"/>
                </a:solidFill>
                <a:latin typeface="Arial"/>
              </a:rPr>
              <a:t>3.  </a:t>
            </a:r>
            <a:r>
              <a:rPr b="1" lang="ru-RU" sz="2800" spc="-1" strike="noStrike">
                <a:solidFill>
                  <a:srgbClr val="1ce46d"/>
                </a:solidFill>
                <a:latin typeface="Arial"/>
              </a:rPr>
              <a:t>КОНКУРС  ТЕОРЕТИКОВ</a:t>
            </a:r>
            <a:endParaRPr b="1" i="1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арточки с физическими величинам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1. Заряд, масса, сила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2. Сопротивление, изменение температуры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3.Напряжение, сила тока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4. Количество теплоты, ускорение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7a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7a3ff"/>
                </a:solidFill>
                <a:latin typeface="Arial"/>
              </a:rPr>
              <a:t>5.Гравитационное ускорение постоянное</a:t>
            </a:r>
            <a:r>
              <a:rPr b="0" lang="en-US" sz="2800" spc="-1" strike="noStrike">
                <a:solidFill>
                  <a:srgbClr val="47a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Радиу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8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На доске даны фамилии учёны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ОМ; И. Ньютон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. Кулон; Х. Ленц 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. Джоу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Командам в течение 3 минут необходимо составить формулы, и дать названия зак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e46d"/>
                </a:solidFill>
                <a:latin typeface="Arial"/>
              </a:rPr>
              <a:t>4. КОНКУРС  ИСКАТЕЛЕЙ</a:t>
            </a:r>
            <a:endParaRPr b="1" i="1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32d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32dbf"/>
                </a:solidFill>
                <a:latin typeface="Arial"/>
              </a:rPr>
              <a:t>1.Слышит ли пилот самолёта, летящего со сверхзвуковой скоростью, шум двигателей, расположенных на крыльях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. В самые сухие и жаркие дни пчёлы на верхних стенках в улье “развешивают” капельки воды. Каково их назначени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ebc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bcee"/>
                </a:solidFill>
                <a:latin typeface="Arial"/>
              </a:rPr>
              <a:t>3.Какой тряпкой скорее соберёшь лужу с пола – сухой или влажной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32d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32dbf"/>
                </a:solidFill>
                <a:latin typeface="Arial"/>
              </a:rPr>
              <a:t>4. Зачем кастрюлю закрывают крышкой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32d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wipe dir="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a096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096ec"/>
                </a:solidFill>
                <a:latin typeface="Arial"/>
              </a:rPr>
              <a:t>5. Почему в сауне человек может выдержать температуру воздуха до 130 С., а в русской бане – вдвое меньше?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c000"/>
                </a:solidFill>
                <a:latin typeface="Arial"/>
              </a:rPr>
              <a:t>6. Что является источником энергии при работе мышц человека?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Arial"/>
              </a:rPr>
              <a:t>7. Чем объяснить, что иногда человек, случайно схватившийся за оголенный электрический провод, бывает не в силах оторвать от него руку?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a096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096ec"/>
                </a:solidFill>
                <a:latin typeface="Arial"/>
              </a:rPr>
              <a:t>8. Какой человек будет лучше видеть предметы под водой – страдающий близорукостью или дальнозоркостью?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a096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circl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9360">
            <a:solidFill>
              <a:srgbClr val="ca36b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eaa39"/>
                </a:solidFill>
                <a:latin typeface="Arial"/>
              </a:rPr>
              <a:t>КОНКУРС  ВОЛШЕБНИКОВ</a:t>
            </a:r>
            <a:endParaRPr b="1" i="1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4632480" y="1274760"/>
            <a:ext cx="4060800" cy="4851360"/>
          </a:xfrm>
          <a:prstGeom prst="rect">
            <a:avLst/>
          </a:prstGeom>
          <a:ln w="0">
            <a:noFill/>
          </a:ln>
        </p:spPr>
      </p:pic>
      <p:pic>
        <p:nvPicPr>
          <p:cNvPr id="156" name="Содержимое 7" descr=""/>
          <p:cNvPicPr/>
          <p:nvPr/>
        </p:nvPicPr>
        <p:blipFill>
          <a:blip r:embed="rId2"/>
          <a:stretch/>
        </p:blipFill>
        <p:spPr>
          <a:xfrm>
            <a:off x="444600" y="1285920"/>
            <a:ext cx="4066920" cy="48528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e46d"/>
                </a:solidFill>
                <a:latin typeface="Arial"/>
              </a:rPr>
              <a:t>КОНКУРС  ИСТОРИКОВ</a:t>
            </a:r>
            <a:endParaRPr b="1" i="1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21047400">
            <a:off x="650520" y="1917720"/>
            <a:ext cx="6229440" cy="15033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лод Леви–Стросс, французский антрополог говорил: “Ученый - это не тот, кто дает правильные ответы, а тот, кто ставит правильные вопросы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714480" y="3571920"/>
            <a:ext cx="45003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ам предлагаются факты из биографии некоторых знаменитых физиков тысячеле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оманда, которая первой правильно назовет имя того о ком идет речь, получает пять бал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comb dir="horz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209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одился 19 ноября 1711 г. В деревушке недалеко от Архангельска, в семье крестьянина-помора. С детства стремился к знаниям. Учился в первых русских высших учебных заведениях. Диапазон научных интересов был исключительно широк, его без преувеличения называли энциклопедистом. Совместно с профессором Рихманом он изучал атмосферное электричество, имел заслуги в развитии астрономии и астрономической оптики. Центральное место в творчестве ученого занимали работы в области атомистики и кинетической теории. Все труды по физики и химии, представленные в то время в Академию, были значитель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strips dir="ld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314280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a36bf"/>
                </a:solidFill>
                <a:latin typeface="Arial"/>
              </a:rPr>
              <a:t>Именно этот английский ученый получивший за свою научную деятельность рыцарский титул, направил сподвижнику Петра I, крупному военноначальнику А.Д. Меньшикову извещение о том, что тот избран членом Королевской Академии наук Великобритании, парадокс состоял в том, что Меньшиков был неграмот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a36bf"/>
                </a:solidFill>
                <a:latin typeface="Arial"/>
              </a:rPr>
              <a:t>В 1695 г. Он получил должность смотрителя монетного двора Великобритании, а через четыре года директ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a36bf"/>
                </a:solidFill>
                <a:latin typeface="Arial"/>
              </a:rPr>
              <a:t>Философ Гегель шутил: три яблока сгубили мир: яблоко Адама, яблоко Париса, и его яблоко. Им открыты основные законы движения тел и закон тягот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strips dir="lu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8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Воспитание этот ученый получил в монастыре, образование – частично на медицинском факультете Пизанского университета ; затем работал преподавателем математики, был придворным философом. Он умер в 1642 г., а почти через 100 лет - в 1737 г. прах ученого, согласно его завещанию, был перенесён во Флоренцию и захоронен рядом с прахом Микеландж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Лишь спустя почти три с половиной столетия после его кончины Папа Римский Иоанн Павел Второй выступил с заявлением, в котором признал, что гонения церкви были напрасны: он был прав. Он первым применил телескоп для астрономических исследований, открыл спутники Юпитера, солнечные пятна и фазы Вен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strips dir="r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22160" y="150012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c2ff"/>
                </a:solidFill>
                <a:latin typeface="Arial"/>
              </a:rPr>
              <a:t>Этот ученый свой трудовой путь начал в качестве школьного учителя, а в дальнейшем выполнял, роль эксперта в патентном бюро Б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c2ff"/>
                </a:solidFill>
                <a:latin typeface="Arial"/>
              </a:rPr>
              <a:t>Нобелевскую премию он получил в 1921 г. за физико-математические исследования и открытия законов фотоэффекта. Его письмо президенту США в 1940 г. стимулировало организацию ядерных исследований в этой стр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5c2ff"/>
                </a:solidFill>
                <a:latin typeface="Arial"/>
              </a:rPr>
              <a:t>Этот ученый – один из основоположников современной физики, создатель обшей теории пространства – времени – тягот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strips dir="ru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8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7120" y="4429080"/>
            <a:ext cx="7772400" cy="1362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1ce46d"/>
                </a:solidFill>
                <a:latin typeface="Arial"/>
              </a:rPr>
              <a:t>                  </a:t>
            </a:r>
            <a:r>
              <a:rPr b="1" i="1" lang="ru-RU" sz="4000" spc="-1" strike="noStrike">
                <a:solidFill>
                  <a:srgbClr val="1ce46d"/>
                </a:solidFill>
                <a:latin typeface="Arial"/>
              </a:rPr>
              <a:t>10 – 11  КЛАСС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pic>
        <p:nvPicPr>
          <p:cNvPr id="98" name="Прямоугольник 3" descr=""/>
          <p:cNvPicPr/>
          <p:nvPr/>
        </p:nvPicPr>
        <p:blipFill>
          <a:blip r:embed="rId1"/>
          <a:stretch/>
        </p:blipFill>
        <p:spPr>
          <a:xfrm>
            <a:off x="237960" y="1725480"/>
            <a:ext cx="8485200" cy="325440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8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e46d"/>
                </a:solidFill>
                <a:latin typeface="Arial"/>
              </a:rPr>
              <a:t>7. КОНКУРС «НАРИСОВАННОЕ ЯВЛЕНИЕ»</a:t>
            </a:r>
            <a:endParaRPr b="1" i="1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85840" y="1571400"/>
            <a:ext cx="8229600" cy="4483080"/>
          </a:xfrm>
          <a:prstGeom prst="rect">
            <a:avLst/>
          </a:prstGeom>
          <a:solidFill>
            <a:srgbClr val="607ac9"/>
          </a:solidFill>
          <a:ln w="9360">
            <a:solidFill>
              <a:srgbClr val="ca36b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оманды представляют рисунок с физическим явл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cc"/>
                </a:solidFill>
                <a:latin typeface="Arial"/>
              </a:rPr>
              <a:t>Нужно сказать: какое явление нарисовано и объяснить его физический смыс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split dir="out" orient="horz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e46d"/>
                </a:solidFill>
                <a:latin typeface="Arial"/>
              </a:rPr>
              <a:t>8. КОНКУРС «ФИЗИЧЕСКИЕ  ВЕЛИЧИНЫ» </a:t>
            </a:r>
            <a:endParaRPr b="1" i="1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56880"/>
            <a:ext cx="8229600" cy="4000680"/>
          </a:xfrm>
          <a:prstGeom prst="rect">
            <a:avLst/>
          </a:prstGeom>
          <a:solidFill>
            <a:srgbClr val="1c68a0"/>
          </a:solidFill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fca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fca56"/>
                </a:solidFill>
                <a:latin typeface="Arial"/>
              </a:rPr>
              <a:t>По очереди называть физические величины, не повторяясь, в течение одной мину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99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99ec"/>
                </a:solidFill>
                <a:latin typeface="Arial"/>
              </a:rPr>
              <a:t>Выигрывает та команда, которая последней назовёт физическую величи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checker dir="vert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3"/>
          <p:cNvSpPr/>
          <p:nvPr/>
        </p:nvSpPr>
        <p:spPr>
          <a:xfrm>
            <a:off x="5651640" y="24210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332000" y="24210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332000" y="2708280"/>
            <a:ext cx="22543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7a3ff"/>
                </a:solidFill>
                <a:latin typeface="Arial"/>
              </a:rPr>
              <a:t>Жюри объявляет итоги физического поеди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6"/>
          <p:cNvSpPr/>
          <p:nvPr/>
        </p:nvSpPr>
        <p:spPr>
          <a:xfrm>
            <a:off x="3419640" y="2349360"/>
            <a:ext cx="903240" cy="1241640"/>
          </a:xfrm>
          <a:prstGeom prst="pie">
            <a:avLst/>
          </a:prstGeom>
          <a:gradFill rotWithShape="0">
            <a:gsLst>
              <a:gs pos="0">
                <a:srgbClr val="2a99ec"/>
              </a:gs>
              <a:gs pos="100000">
                <a:srgbClr val="78be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 flipH="1">
            <a:off x="4931640" y="2349360"/>
            <a:ext cx="903240" cy="1241640"/>
          </a:xfrm>
          <a:prstGeom prst="pie">
            <a:avLst/>
          </a:prstGeom>
          <a:gradFill rotWithShape="0">
            <a:gsLst>
              <a:gs pos="0">
                <a:srgbClr val="70b040"/>
              </a:gs>
              <a:gs pos="100000">
                <a:srgbClr val="d2e6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9"/>
          <p:cNvGrpSpPr/>
          <p:nvPr/>
        </p:nvGrpSpPr>
        <p:grpSpPr>
          <a:xfrm>
            <a:off x="3059280" y="692280"/>
            <a:ext cx="2998440" cy="1600920"/>
            <a:chOff x="3059280" y="692280"/>
            <a:chExt cx="2998440" cy="1600920"/>
          </a:xfrm>
        </p:grpSpPr>
        <p:grpSp>
          <p:nvGrpSpPr>
            <p:cNvPr id="175" name="Group 10"/>
            <p:cNvGrpSpPr/>
            <p:nvPr/>
          </p:nvGrpSpPr>
          <p:grpSpPr>
            <a:xfrm>
              <a:off x="3059280" y="834840"/>
              <a:ext cx="2998440" cy="1458360"/>
              <a:chOff x="3059280" y="834840"/>
              <a:chExt cx="2998440" cy="1458360"/>
            </a:xfrm>
          </p:grpSpPr>
          <p:sp>
            <p:nvSpPr>
              <p:cNvPr id="176" name="Oval 11"/>
              <p:cNvSpPr/>
              <p:nvPr/>
            </p:nvSpPr>
            <p:spPr>
              <a:xfrm>
                <a:off x="3092040" y="881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0b040"/>
                  </a:gs>
                  <a:gs pos="100000">
                    <a:srgbClr val="3656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Oval 12"/>
              <p:cNvSpPr/>
              <p:nvPr/>
            </p:nvSpPr>
            <p:spPr>
              <a:xfrm>
                <a:off x="3059280" y="8348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0dcaa"/>
                  </a:gs>
                  <a:gs pos="100000">
                    <a:srgbClr val="70b0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Oval 13"/>
            <p:cNvSpPr/>
            <p:nvPr/>
          </p:nvSpPr>
          <p:spPr>
            <a:xfrm>
              <a:off x="3200760" y="6922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84717"/>
                </a:gs>
                <a:gs pos="100000">
                  <a:srgbClr val="be99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4"/>
            <p:cNvSpPr/>
            <p:nvPr/>
          </p:nvSpPr>
          <p:spPr>
            <a:xfrm>
              <a:off x="3235680" y="6998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e9932">
                    <a:alpha val="0"/>
                  </a:srgbClr>
                </a:gs>
                <a:gs pos="100000">
                  <a:srgbClr val="e8d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>
              <a:off x="3262680" y="7128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977928"/>
                </a:gs>
                <a:gs pos="100000">
                  <a:srgbClr val="be993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6"/>
            <p:cNvSpPr/>
            <p:nvPr/>
          </p:nvSpPr>
          <p:spPr>
            <a:xfrm>
              <a:off x="3394440" y="7398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e993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Text Box 17"/>
          <p:cNvSpPr/>
          <p:nvPr/>
        </p:nvSpPr>
        <p:spPr>
          <a:xfrm>
            <a:off x="3286080" y="107172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ВЕД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ТОГ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867280" y="2708280"/>
            <a:ext cx="20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e46d"/>
                </a:solidFill>
                <a:latin typeface="Arial"/>
              </a:rPr>
              <a:t>Награждение  коман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wheel spokes="2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14720"/>
            <a:ext cx="8229600" cy="2357280"/>
          </a:xfrm>
          <a:prstGeom prst="rect">
            <a:avLst/>
          </a:prstGeom>
          <a:noFill/>
          <a:ln w="9360">
            <a:solidFill>
              <a:srgbClr val="d32dbf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ce46d"/>
                </a:solidFill>
                <a:latin typeface="Arial"/>
              </a:rPr>
              <a:t>СПАСИБО  ЗА  ВНИМАНИЕ!!!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</p:spTree>
  </p:cSld>
  <p:transition spd="med" advTm="2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"/>
          <p:cNvSpPr/>
          <p:nvPr/>
        </p:nvSpPr>
        <p:spPr>
          <a:xfrm>
            <a:off x="5580000" y="27813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403280" y="27813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476360" y="2924280"/>
            <a:ext cx="203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reeform 6"/>
          <p:cNvSpPr/>
          <p:nvPr/>
        </p:nvSpPr>
        <p:spPr>
          <a:xfrm>
            <a:off x="3203640" y="2060640"/>
            <a:ext cx="903240" cy="1241280"/>
          </a:xfrm>
          <a:prstGeom prst="pie">
            <a:avLst/>
          </a:prstGeom>
          <a:gradFill rotWithShape="0">
            <a:gsLst>
              <a:gs pos="0">
                <a:srgbClr val="2a99ec"/>
              </a:gs>
              <a:gs pos="100000">
                <a:srgbClr val="78be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Freeform 8"/>
          <p:cNvSpPr/>
          <p:nvPr/>
        </p:nvSpPr>
        <p:spPr>
          <a:xfrm flipH="1">
            <a:off x="5147640" y="2060640"/>
            <a:ext cx="903240" cy="1241280"/>
          </a:xfrm>
          <a:prstGeom prst="pie">
            <a:avLst/>
          </a:prstGeom>
          <a:gradFill rotWithShape="0">
            <a:gsLst>
              <a:gs pos="0">
                <a:srgbClr val="70b040"/>
              </a:gs>
              <a:gs pos="100000">
                <a:srgbClr val="d2e6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9"/>
          <p:cNvGrpSpPr/>
          <p:nvPr/>
        </p:nvGrpSpPr>
        <p:grpSpPr>
          <a:xfrm>
            <a:off x="3132000" y="404640"/>
            <a:ext cx="2998440" cy="1601640"/>
            <a:chOff x="3132000" y="404640"/>
            <a:chExt cx="2998440" cy="1601640"/>
          </a:xfrm>
        </p:grpSpPr>
        <p:grpSp>
          <p:nvGrpSpPr>
            <p:cNvPr id="106" name="Group 10"/>
            <p:cNvGrpSpPr/>
            <p:nvPr/>
          </p:nvGrpSpPr>
          <p:grpSpPr>
            <a:xfrm>
              <a:off x="3132000" y="547560"/>
              <a:ext cx="2998440" cy="1458720"/>
              <a:chOff x="3132000" y="547560"/>
              <a:chExt cx="2998440" cy="1458720"/>
            </a:xfrm>
          </p:grpSpPr>
          <p:sp>
            <p:nvSpPr>
              <p:cNvPr id="107" name="Oval 11"/>
              <p:cNvSpPr/>
              <p:nvPr/>
            </p:nvSpPr>
            <p:spPr>
              <a:xfrm>
                <a:off x="3164760" y="594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70b040"/>
                  </a:gs>
                  <a:gs pos="100000">
                    <a:srgbClr val="3656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12"/>
              <p:cNvSpPr/>
              <p:nvPr/>
            </p:nvSpPr>
            <p:spPr>
              <a:xfrm>
                <a:off x="3132000" y="547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c0dcaa"/>
                  </a:gs>
                  <a:gs pos="100000">
                    <a:srgbClr val="70b0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Oval 13"/>
            <p:cNvSpPr/>
            <p:nvPr/>
          </p:nvSpPr>
          <p:spPr>
            <a:xfrm>
              <a:off x="3273480" y="404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84717"/>
                </a:gs>
                <a:gs pos="100000">
                  <a:srgbClr val="be99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4"/>
            <p:cNvSpPr/>
            <p:nvPr/>
          </p:nvSpPr>
          <p:spPr>
            <a:xfrm>
              <a:off x="3308400" y="412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e9932">
                    <a:alpha val="0"/>
                  </a:srgbClr>
                </a:gs>
                <a:gs pos="100000">
                  <a:srgbClr val="e8d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>
              <a:off x="3335400" y="425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977928"/>
                </a:gs>
                <a:gs pos="100000">
                  <a:srgbClr val="be993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6"/>
            <p:cNvSpPr/>
            <p:nvPr/>
          </p:nvSpPr>
          <p:spPr>
            <a:xfrm>
              <a:off x="3467160" y="452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e993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 Box 17"/>
          <p:cNvSpPr/>
          <p:nvPr/>
        </p:nvSpPr>
        <p:spPr>
          <a:xfrm>
            <a:off x="3851280" y="620640"/>
            <a:ext cx="16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3635280" y="3933720"/>
            <a:ext cx="18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e9932"/>
                </a:solidFill>
                <a:latin typeface="Arial"/>
              </a:rPr>
              <a:t>развитие умения излагать мысли и моделировать ситуа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3492360" y="3860640"/>
            <a:ext cx="2232000" cy="2089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5724360" y="2924280"/>
            <a:ext cx="20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 flipH="1" rot="4222200">
            <a:off x="3875040" y="2602800"/>
            <a:ext cx="1511280" cy="718920"/>
          </a:xfrm>
          <a:prstGeom prst="pie">
            <a:avLst/>
          </a:prstGeom>
          <a:gradFill rotWithShape="0">
            <a:gsLst>
              <a:gs pos="0">
                <a:srgbClr val="be9932"/>
              </a:gs>
              <a:gs pos="100000">
                <a:srgbClr val="eadfbe"/>
              </a:gs>
            </a:gsLst>
            <a:lin ang="42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26"/>
          <p:cNvSpPr/>
          <p:nvPr/>
        </p:nvSpPr>
        <p:spPr>
          <a:xfrm>
            <a:off x="5929200" y="3357720"/>
            <a:ext cx="164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e46d"/>
                </a:solidFill>
                <a:latin typeface="Arial"/>
              </a:rPr>
              <a:t>воспитание уважения к сопернику, умения работать в коман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27"/>
          <p:cNvSpPr/>
          <p:nvPr/>
        </p:nvSpPr>
        <p:spPr>
          <a:xfrm>
            <a:off x="1643040" y="342900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dcf6"/>
                </a:solidFill>
                <a:latin typeface="Arial"/>
              </a:rPr>
              <a:t>повторение и закрепление основного программного 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857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eaa39"/>
                </a:solidFill>
                <a:latin typeface="Arial"/>
              </a:rPr>
              <a:t>ОБОРУДОВАНИЕ</a:t>
            </a:r>
            <a:endParaRPr b="1" i="1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760" y="157140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dc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adcf6"/>
                </a:solidFill>
                <a:latin typeface="Arial"/>
              </a:rPr>
              <a:t>комплекты карточек с записью физических величин, с вопрос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dc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adcf6"/>
                </a:solidFill>
                <a:latin typeface="Arial"/>
              </a:rPr>
              <a:t>цветные мел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dbcaad"/>
                </a:solidFill>
                <a:latin typeface="Arial"/>
              </a:rPr>
              <a:t>листы с биографией уче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bca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caad"/>
                </a:solidFill>
                <a:latin typeface="Arial"/>
              </a:rPr>
              <a:t>компью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>
            <a:off x="5651640" y="24210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332000" y="242100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3419640" y="2349360"/>
            <a:ext cx="903240" cy="1241640"/>
          </a:xfrm>
          <a:prstGeom prst="pie">
            <a:avLst/>
          </a:prstGeom>
          <a:gradFill rotWithShape="0">
            <a:gsLst>
              <a:gs pos="0">
                <a:srgbClr val="2a99ec"/>
              </a:gs>
              <a:gs pos="100000">
                <a:srgbClr val="78be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8"/>
          <p:cNvSpPr/>
          <p:nvPr/>
        </p:nvSpPr>
        <p:spPr>
          <a:xfrm flipH="1">
            <a:off x="4931640" y="2349360"/>
            <a:ext cx="903240" cy="1241640"/>
          </a:xfrm>
          <a:prstGeom prst="pie">
            <a:avLst/>
          </a:prstGeom>
          <a:gradFill rotWithShape="0">
            <a:gsLst>
              <a:gs pos="0">
                <a:srgbClr val="70b040"/>
              </a:gs>
              <a:gs pos="100000">
                <a:srgbClr val="d2e6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3059280" y="692280"/>
            <a:ext cx="2998440" cy="1600920"/>
            <a:chOff x="3059280" y="692280"/>
            <a:chExt cx="2998440" cy="1600920"/>
          </a:xfrm>
        </p:grpSpPr>
        <p:grpSp>
          <p:nvGrpSpPr>
            <p:cNvPr id="128" name="Group 10"/>
            <p:cNvGrpSpPr/>
            <p:nvPr/>
          </p:nvGrpSpPr>
          <p:grpSpPr>
            <a:xfrm>
              <a:off x="3059280" y="834840"/>
              <a:ext cx="2998440" cy="1458360"/>
              <a:chOff x="3059280" y="834840"/>
              <a:chExt cx="2998440" cy="1458360"/>
            </a:xfrm>
          </p:grpSpPr>
          <p:sp>
            <p:nvSpPr>
              <p:cNvPr id="129" name="Oval 11"/>
              <p:cNvSpPr/>
              <p:nvPr/>
            </p:nvSpPr>
            <p:spPr>
              <a:xfrm>
                <a:off x="3092040" y="881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0b040"/>
                  </a:gs>
                  <a:gs pos="100000">
                    <a:srgbClr val="36561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>
                <a:off x="3059280" y="8348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0dcaa"/>
                  </a:gs>
                  <a:gs pos="100000">
                    <a:srgbClr val="70b04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Oval 13"/>
            <p:cNvSpPr/>
            <p:nvPr/>
          </p:nvSpPr>
          <p:spPr>
            <a:xfrm>
              <a:off x="3200760" y="6922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84717"/>
                </a:gs>
                <a:gs pos="100000">
                  <a:srgbClr val="be99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4"/>
            <p:cNvSpPr/>
            <p:nvPr/>
          </p:nvSpPr>
          <p:spPr>
            <a:xfrm>
              <a:off x="3235680" y="6998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e9932">
                    <a:alpha val="0"/>
                  </a:srgbClr>
                </a:gs>
                <a:gs pos="100000">
                  <a:srgbClr val="e8db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>
              <a:off x="3262680" y="7128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977928"/>
                </a:gs>
                <a:gs pos="100000">
                  <a:srgbClr val="be993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3394440" y="7398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e993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Text Box 17"/>
          <p:cNvSpPr/>
          <p:nvPr/>
        </p:nvSpPr>
        <p:spPr>
          <a:xfrm>
            <a:off x="3857760" y="107172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ЛЯ ОПЫ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9"/>
          <p:cNvSpPr/>
          <p:nvPr/>
        </p:nvSpPr>
        <p:spPr>
          <a:xfrm>
            <a:off x="1714680" y="324468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dcf6"/>
                </a:solidFill>
                <a:latin typeface="Arial"/>
              </a:rPr>
              <a:t>стакан с водой, лист плотной бума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20"/>
          <p:cNvSpPr/>
          <p:nvPr/>
        </p:nvSpPr>
        <p:spPr>
          <a:xfrm>
            <a:off x="5929200" y="310500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e46d"/>
                </a:solidFill>
                <a:latin typeface="Arial"/>
              </a:rPr>
              <a:t>два стеклянных сосуда с водой, картофе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eaa39"/>
                </a:solidFill>
                <a:latin typeface="Arial"/>
              </a:rPr>
              <a:t>ПРЕДВАРИТЕЛЬНАЯ ПОДГОТОВКА </a:t>
            </a:r>
            <a:endParaRPr b="1" i="1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a36bf"/>
                </a:solidFill>
                <a:latin typeface="Arial"/>
              </a:rPr>
              <a:t>Формируются две команды по восемь учащихся 10-11 клас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 два дня до проведения мероприятия даётся задание: подготовить эмблему, придумать название команды, девиз, рисунок с физическим явлением, подготовить физический опыт с последующим объясн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103,42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-80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eaa39"/>
                </a:solidFill>
                <a:latin typeface="Arial"/>
              </a:rPr>
              <a:t>1. ПРЕДСТАЛЕНИЕ  КОМАНД</a:t>
            </a:r>
            <a:r>
              <a:rPr b="1" i="1" lang="ru-RU" sz="4000" spc="-1" strike="noStrike">
                <a:solidFill>
                  <a:srgbClr val="1eaa39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“КВАН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Команда Веселых, Абсолютно Находчивых и Трудолюбивы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Arial"/>
              </a:rPr>
              <a:t>Девиз:</a:t>
            </a:r>
            <a:r>
              <a:rPr b="0" lang="ru-RU" sz="26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2d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32dbf"/>
                </a:solidFill>
                <a:latin typeface="Arial"/>
              </a:rPr>
              <a:t>Успех прямо пропорционален произведению остроумия и находчив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2d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8320" y="1295280"/>
            <a:ext cx="40384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“ЭРУДИ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2d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32dbf"/>
                </a:solidFill>
                <a:latin typeface="Arial"/>
              </a:rPr>
              <a:t>(Эти Ребята Умеют Думать И Толкова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евиз: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и шагу назад,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и шагу на месте,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 только вперед!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И только все вмес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push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880" y="1643040"/>
            <a:ext cx="7772400" cy="3983040"/>
          </a:xfrm>
          <a:prstGeom prst="rect">
            <a:avLst/>
          </a:prstGeom>
          <a:solidFill>
            <a:srgbClr val="4040ff"/>
          </a:solidFill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РЕДСТАВЛЕНИЕ КОМАНД. </a:t>
            </a:r>
            <a:br>
              <a:rPr sz="2000"/>
            </a:br>
            <a:r>
              <a:rPr b="1" i="1" lang="ru-RU" sz="2000" spc="-1" strike="noStrike">
                <a:solidFill>
                  <a:srgbClr val="9adcf6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c000"/>
                </a:solidFill>
                <a:latin typeface="Arial"/>
              </a:rPr>
              <a:t>РАЗМИНКА. </a:t>
            </a:r>
            <a:br>
              <a:rPr sz="2000"/>
            </a:br>
            <a:r>
              <a:rPr b="1" i="1" lang="ru-RU" sz="2000" spc="-1" strike="noStrike">
                <a:solidFill>
                  <a:srgbClr val="9adcf6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КОНКУРС ТЕОРЕТИКОВ. </a:t>
            </a:r>
            <a:br>
              <a:rPr sz="2000"/>
            </a:br>
            <a:r>
              <a:rPr b="1" i="1" lang="ru-RU" sz="2000" spc="-1" strike="noStrike">
                <a:solidFill>
                  <a:srgbClr val="9adcf6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КОНКУРС ИСКАТЕЛЕЙ.</a:t>
            </a:r>
            <a:br>
              <a:rPr sz="2000"/>
            </a:br>
            <a:r>
              <a:rPr b="1" i="1" lang="ru-RU" sz="2000" spc="-1" strike="noStrike">
                <a:solidFill>
                  <a:srgbClr val="9adcf6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3ebcee"/>
                </a:solidFill>
                <a:latin typeface="Arial"/>
              </a:rPr>
              <a:t>КОНКУРС ВОЛШЕБНИКОВ. </a:t>
            </a:r>
            <a:br>
              <a:rPr sz="2000"/>
            </a:br>
            <a:r>
              <a:rPr b="1" i="1" lang="ru-RU" sz="2000" spc="-1" strike="noStrike">
                <a:solidFill>
                  <a:srgbClr val="9adcf6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1c68a0"/>
                </a:solidFill>
                <a:latin typeface="Arial"/>
              </a:rPr>
              <a:t>КОНКУРС ИСТОРИКОВ. </a:t>
            </a:r>
            <a:br>
              <a:rPr sz="2000"/>
            </a:br>
            <a:r>
              <a:rPr b="1" i="1" lang="ru-RU" sz="2000" spc="-1" strike="noStrike">
                <a:solidFill>
                  <a:srgbClr val="9adcf6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КОНКУРС “НАРИСОВАННОЕ ЯВЛЕНИЕ”. </a:t>
            </a:r>
            <a:br>
              <a:rPr sz="2000"/>
            </a:br>
            <a:r>
              <a:rPr b="1" i="1" lang="ru-RU" sz="2000" spc="-1" strike="noStrike">
                <a:solidFill>
                  <a:srgbClr val="9adcf6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КОНКУРС “ФИЗИЧЕСКИЕ ВЕЛИЧИНЫ”. </a:t>
            </a:r>
            <a:br>
              <a:rPr sz="2000"/>
            </a:br>
            <a:r>
              <a:rPr b="1" i="1" lang="ru-RU" sz="4000" spc="-1" strike="noStrike">
                <a:solidFill>
                  <a:srgbClr val="9adcf6"/>
                </a:solidFill>
                <a:latin typeface="Arial"/>
              </a:rPr>
              <a:t> </a:t>
            </a:r>
            <a:br>
              <a:rPr sz="4000"/>
            </a:b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14240" y="85680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aa39"/>
                </a:solidFill>
                <a:latin typeface="Arial"/>
              </a:rPr>
              <a:t>ПЛАН ПР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ce46d"/>
                </a:solidFill>
                <a:latin typeface="Arial"/>
              </a:rPr>
              <a:t>2. РАЗМИНКА</a:t>
            </a:r>
            <a:endParaRPr b="1" i="1" lang="en-US" sz="28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1.Почему нельзя сварить мясо высоко в горах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32d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32dbf"/>
                </a:solidFill>
                <a:latin typeface="Arial"/>
              </a:rPr>
              <a:t>2.Какая буханка хлеба тяжелее: горячая или холодна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3. Почему во время снегопада тепле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"/>
              </a:rPr>
              <a:t>4.В честь какого ученого названа сила выталкивания физического тела из жидкости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5.Как называются отраженные звуки, вернувшиеся к своему источник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">
    <p:strips dir="l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20:34:22Z</dcterms:created>
  <dc:creator>Administrator</dc:creator>
  <dc:description/>
  <cp:keywords/>
  <dc:language>en-US</dc:language>
  <cp:lastModifiedBy>User</cp:lastModifiedBy>
  <dcterms:modified xsi:type="dcterms:W3CDTF">2014-01-21T17:11:34Z</dcterms:modified>
  <cp:revision>10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41033</vt:lpwstr>
  </property>
</Properties>
</file>